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5606-DF7B-44EA-AD60-978742FD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F85-F773-422A-A6F2-30DD2FF5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4D1-02C8-4D0E-8949-951190DE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603-E908-446C-8753-2DA7A274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294-2494-403B-99E1-FC4D797E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136-4F57-48CE-A708-3B04AB6D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B09-356C-4AED-9181-842816B3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5DF-F126-467D-B61A-6E5E111C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E57-8EA0-48B1-BD66-529E312C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C9C-1044-4CA1-8C3B-0F1A191B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598-684B-4CEB-8659-A30EE9DF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6CF-41FA-4804-A26B-3FB317BB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683A-E426-4099-8831-0F7CA5B26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7320" y="425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Sprzężenie zwrotne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70040" y="1482840"/>
            <a:ext cx="7897680" cy="4967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23520" y="2108160"/>
            <a:ext cx="1716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9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94160" y="2981160"/>
            <a:ext cx="1497240" cy="335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96880" y="1467000"/>
            <a:ext cx="7923240" cy="4983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74480" y="2344680"/>
            <a:ext cx="1716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27600" y="1546200"/>
            <a:ext cx="1584360" cy="44604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1305000"/>
            <a:ext cx="7480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961920"/>
            <a:ext cx="8718480" cy="5558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75120" y="288756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38760" y="405144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32640" y="3562200"/>
            <a:ext cx="2734920" cy="1006560"/>
          </a:xfrm>
          <a:prstGeom prst="wedgeRectCallout">
            <a:avLst>
              <a:gd name="adj1" fmla="val -46226"/>
              <a:gd name="adj2" fmla="val -1086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kty pracy dla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73160" y="723960"/>
            <a:ext cx="3397320" cy="22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 flipH="1">
            <a:off x="2932200" y="2152800"/>
            <a:ext cx="147600" cy="102708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33560" y="2330280"/>
            <a:ext cx="631800" cy="1954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jedno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082760" y="1154160"/>
            <a:ext cx="4302000" cy="3122280"/>
            <a:chOff x="4082760" y="1154160"/>
            <a:chExt cx="4302000" cy="3122280"/>
          </a:xfrm>
        </p:grpSpPr>
        <p:sp>
          <p:nvSpPr>
            <p:cNvPr id="162" name=""/>
            <p:cNvSpPr/>
            <p:nvPr/>
          </p:nvSpPr>
          <p:spPr>
            <a:xfrm>
              <a:off x="4670280" y="1154160"/>
              <a:ext cx="0" cy="29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57960" y="3685320"/>
              <a:ext cx="38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70280" y="2087280"/>
              <a:ext cx="112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6720" y="2087280"/>
              <a:ext cx="1575000" cy="15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78200" y="37663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88160" y="2692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84680" y="2068200"/>
              <a:ext cx="3355560" cy="1625760"/>
            </a:xfrm>
            <a:custGeom>
              <a:avLst/>
              <a:gdLst/>
              <a:ahLst/>
              <a:rect l="l" t="t" r="r" b="b"/>
              <a:pathLst>
                <a:path w="1431" h="586">
                  <a:moveTo>
                    <a:pt x="0" y="7"/>
                  </a:moveTo>
                  <a:cubicBezTo>
                    <a:pt x="105" y="4"/>
                    <a:pt x="207" y="0"/>
                    <a:pt x="285" y="7"/>
                  </a:cubicBezTo>
                  <a:cubicBezTo>
                    <a:pt x="363" y="14"/>
                    <a:pt x="419" y="33"/>
                    <a:pt x="471" y="52"/>
                  </a:cubicBezTo>
                  <a:cubicBezTo>
                    <a:pt x="523" y="71"/>
                    <a:pt x="552" y="90"/>
                    <a:pt x="597" y="121"/>
                  </a:cubicBezTo>
                  <a:cubicBezTo>
                    <a:pt x="642" y="152"/>
                    <a:pt x="684" y="189"/>
                    <a:pt x="744" y="241"/>
                  </a:cubicBezTo>
                  <a:cubicBezTo>
                    <a:pt x="804" y="293"/>
                    <a:pt x="899" y="382"/>
                    <a:pt x="960" y="433"/>
                  </a:cubicBezTo>
                  <a:cubicBezTo>
                    <a:pt x="1021" y="484"/>
                    <a:pt x="1053" y="523"/>
                    <a:pt x="1110" y="547"/>
                  </a:cubicBezTo>
                  <a:cubicBezTo>
                    <a:pt x="1167" y="571"/>
                    <a:pt x="1249" y="574"/>
                    <a:pt x="1302" y="580"/>
                  </a:cubicBezTo>
                  <a:cubicBezTo>
                    <a:pt x="1355" y="586"/>
                    <a:pt x="1409" y="582"/>
                    <a:pt x="1431" y="5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39360" y="21038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9960" y="2085840"/>
              <a:ext cx="0" cy="102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74760" y="1174680"/>
              <a:ext cx="129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, 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66320" y="3098880"/>
              <a:ext cx="2118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55040" y="309888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68840" y="3090240"/>
              <a:ext cx="2913120" cy="590040"/>
            </a:xfrm>
            <a:custGeom>
              <a:avLst/>
              <a:gdLst/>
              <a:ahLst/>
              <a:rect l="l" t="t" r="r" b="b"/>
              <a:pathLst>
                <a:path w="2232" h="400">
                  <a:moveTo>
                    <a:pt x="0" y="4"/>
                  </a:moveTo>
                  <a:cubicBezTo>
                    <a:pt x="196" y="4"/>
                    <a:pt x="392" y="4"/>
                    <a:pt x="570" y="4"/>
                  </a:cubicBezTo>
                  <a:cubicBezTo>
                    <a:pt x="748" y="4"/>
                    <a:pt x="928" y="0"/>
                    <a:pt x="1068" y="4"/>
                  </a:cubicBezTo>
                  <a:cubicBezTo>
                    <a:pt x="1208" y="8"/>
                    <a:pt x="1321" y="8"/>
                    <a:pt x="1410" y="28"/>
                  </a:cubicBezTo>
                  <a:cubicBezTo>
                    <a:pt x="1499" y="48"/>
                    <a:pt x="1539" y="83"/>
                    <a:pt x="1602" y="124"/>
                  </a:cubicBezTo>
                  <a:cubicBezTo>
                    <a:pt x="1665" y="165"/>
                    <a:pt x="1725" y="232"/>
                    <a:pt x="1788" y="274"/>
                  </a:cubicBezTo>
                  <a:cubicBezTo>
                    <a:pt x="1851" y="316"/>
                    <a:pt x="1906" y="355"/>
                    <a:pt x="1980" y="376"/>
                  </a:cubicBezTo>
                  <a:cubicBezTo>
                    <a:pt x="2054" y="397"/>
                    <a:pt x="2143" y="398"/>
                    <a:pt x="2232" y="4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98080" y="3763440"/>
              <a:ext cx="470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6720" y="2085840"/>
              <a:ext cx="0" cy="1594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96720" y="3432960"/>
              <a:ext cx="96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07600" y="182304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82760" y="2833200"/>
              <a:ext cx="67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279600" y="4643280"/>
                <a:ext cx="5177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12720" y="3673440"/>
                <a:ext cx="1614600" cy="22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F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F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353880" y="1641600"/>
            <a:ext cx="2816280" cy="1581120"/>
            <a:chOff x="353880" y="1641600"/>
            <a:chExt cx="2816280" cy="1581120"/>
          </a:xfrm>
        </p:grpSpPr>
        <p:sp>
          <p:nvSpPr>
            <p:cNvPr id="183" name=""/>
            <p:cNvSpPr/>
            <p:nvPr/>
          </p:nvSpPr>
          <p:spPr>
            <a:xfrm>
              <a:off x="1041480" y="16416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35000" y="249876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3880" y="19242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1120" y="18828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81120" y="265932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1240" y="26751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1240" y="192420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81280" y="190656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59000" y="22068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239840" y="3146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476000" y="822240"/>
            <a:ext cx="58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1200" y="1252440"/>
            <a:ext cx="2522520" cy="441360"/>
          </a:xfrm>
          <a:custGeom>
            <a:avLst/>
            <a:gdLst/>
            <a:ahLst/>
            <a:rect l="l" t="t" r="r" b="b"/>
            <a:pathLst>
              <a:path w="1589" h="278">
                <a:moveTo>
                  <a:pt x="0" y="244"/>
                </a:moveTo>
                <a:cubicBezTo>
                  <a:pt x="131" y="169"/>
                  <a:pt x="263" y="94"/>
                  <a:pt x="389" y="55"/>
                </a:cubicBezTo>
                <a:cubicBezTo>
                  <a:pt x="515" y="16"/>
                  <a:pt x="615" y="13"/>
                  <a:pt x="756" y="11"/>
                </a:cubicBezTo>
                <a:cubicBezTo>
                  <a:pt x="897" y="9"/>
                  <a:pt x="1095" y="0"/>
                  <a:pt x="1234" y="44"/>
                </a:cubicBezTo>
                <a:cubicBezTo>
                  <a:pt x="1373" y="88"/>
                  <a:pt x="1481" y="183"/>
                  <a:pt x="1589" y="278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38880" y="6053040"/>
            <a:ext cx="4964760" cy="440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le wzmocnienia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B=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U0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gF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09800" y="1081080"/>
            <a:ext cx="4305240" cy="2894760"/>
            <a:chOff x="4609800" y="1081080"/>
            <a:chExt cx="4305240" cy="2894760"/>
          </a:xfrm>
        </p:grpSpPr>
        <p:grpSp>
          <p:nvGrpSpPr>
            <p:cNvPr id="198" name=""/>
            <p:cNvGrpSpPr/>
            <p:nvPr/>
          </p:nvGrpSpPr>
          <p:grpSpPr>
            <a:xfrm>
              <a:off x="4609800" y="1081080"/>
              <a:ext cx="4268880" cy="2894760"/>
              <a:chOff x="4609800" y="1081080"/>
              <a:chExt cx="4268880" cy="2894760"/>
            </a:xfrm>
          </p:grpSpPr>
          <p:sp>
            <p:nvSpPr>
              <p:cNvPr id="199" name=""/>
              <p:cNvSpPr/>
              <p:nvPr/>
            </p:nvSpPr>
            <p:spPr>
              <a:xfrm>
                <a:off x="5360040" y="1081080"/>
                <a:ext cx="0" cy="26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11000" y="3378240"/>
                <a:ext cx="366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60040" y="1928160"/>
                <a:ext cx="14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51160" y="1928160"/>
                <a:ext cx="1055880" cy="73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80160" y="345060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357760" y="29869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174080" y="18608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11680" y="1099800"/>
                <a:ext cx="61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46760" y="346572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51160" y="19267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09800" y="1686600"/>
                <a:ext cx="577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900560" y="2664000"/>
                <a:ext cx="237960" cy="69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888320" y="2682360"/>
                <a:ext cx="0" cy="70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35040" y="3494160"/>
                <a:ext cx="8156520" cy="31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ϖ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5" name=""/>
          <p:cNvGrpSpPr/>
          <p:nvPr/>
        </p:nvGrpSpPr>
        <p:grpSpPr>
          <a:xfrm>
            <a:off x="230040" y="1643040"/>
            <a:ext cx="4119840" cy="1440000"/>
            <a:chOff x="230040" y="1643040"/>
            <a:chExt cx="4119840" cy="1440000"/>
          </a:xfrm>
        </p:grpSpPr>
        <p:sp>
          <p:nvSpPr>
            <p:cNvPr id="216" name=""/>
            <p:cNvSpPr/>
            <p:nvPr/>
          </p:nvSpPr>
          <p:spPr>
            <a:xfrm>
              <a:off x="820800" y="1643040"/>
              <a:ext cx="1198080" cy="605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0040" y="19231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13480" y="188856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54760" y="1922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72800" y="21592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5240" y="1644480"/>
              <a:ext cx="1198080" cy="604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4400" y="2477880"/>
              <a:ext cx="1198080" cy="605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72440" y="19627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39840" y="1982520"/>
              <a:ext cx="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35080" y="21736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400040" y="300456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387520" y="2761920"/>
              <a:ext cx="155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54760" y="27921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782800" y="96984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54360" y="153828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82800" y="1179360"/>
            <a:ext cx="28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65400" y="1179360"/>
            <a:ext cx="39708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92320" y="95076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63520" y="1519200"/>
            <a:ext cx="9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92320" y="13320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3040" y="1312920"/>
            <a:ext cx="2286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5880" y="114444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57640" y="100188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216480" y="4146480"/>
                <a:ext cx="19767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5307120" y="4008600"/>
            <a:ext cx="691920" cy="482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858840" y="4638600"/>
            <a:ext cx="2003400" cy="644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harakterystyka%20Kf" descr=""/>
          <p:cNvPicPr/>
          <p:nvPr/>
        </p:nvPicPr>
        <p:blipFill>
          <a:blip r:embed="rId1"/>
          <a:stretch/>
        </p:blipFill>
        <p:spPr>
          <a:xfrm>
            <a:off x="398520" y="833400"/>
            <a:ext cx="8012160" cy="58006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przenoszeni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569960" y="3261960"/>
            <a:ext cx="6421680" cy="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fazow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Charakterystka%20fazowa%20Kf" descr=""/>
          <p:cNvPicPr/>
          <p:nvPr/>
        </p:nvPicPr>
        <p:blipFill>
          <a:blip r:embed="rId1"/>
          <a:stretch/>
        </p:blipFill>
        <p:spPr>
          <a:xfrm>
            <a:off x="630360" y="963720"/>
            <a:ext cx="7665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wustopniowego wzmacniacza ze sprzęże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6640" y="1228680"/>
            <a:ext cx="7629480" cy="46497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rot="20281200">
            <a:off x="1809720" y="3684600"/>
            <a:ext cx="3564000" cy="178596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51640" y="4503600"/>
            <a:ext cx="348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06640" y="1781280"/>
            <a:ext cx="3205080" cy="200484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2600" y="2631960"/>
            <a:ext cx="7002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a ze sprzężeniem: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44680" y="1231920"/>
            <a:ext cx="82976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209680"/>
            <a:ext cx="243864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038480"/>
            <a:ext cx="243864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19520"/>
            <a:ext cx="10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305100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17220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895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441520" y="735120"/>
                <a:ext cx="42307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582240" y="24382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9720" y="23623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715000"/>
            <a:ext cx="52578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   F = różnica zwrot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mocnienie pęt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1520" y="319248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635280" y="504828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74280" y="2749680"/>
            <a:ext cx="5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360" y="2887560"/>
            <a:ext cx="54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95480" y="2701800"/>
            <a:ext cx="322200" cy="322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03640" y="284472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5120" y="1581120"/>
            <a:ext cx="5405400" cy="890640"/>
          </a:xfrm>
          <a:custGeom>
            <a:avLst/>
            <a:gdLst/>
            <a:ahLst/>
            <a:rect l="l" t="t" r="r" b="b"/>
            <a:pathLst>
              <a:path w="3576" h="561">
                <a:moveTo>
                  <a:pt x="0" y="561"/>
                </a:moveTo>
                <a:cubicBezTo>
                  <a:pt x="181" y="362"/>
                  <a:pt x="362" y="164"/>
                  <a:pt x="640" y="82"/>
                </a:cubicBezTo>
                <a:cubicBezTo>
                  <a:pt x="918" y="0"/>
                  <a:pt x="1293" y="66"/>
                  <a:pt x="1670" y="66"/>
                </a:cubicBezTo>
                <a:cubicBezTo>
                  <a:pt x="2047" y="66"/>
                  <a:pt x="2585" y="12"/>
                  <a:pt x="2903" y="82"/>
                </a:cubicBezTo>
                <a:cubicBezTo>
                  <a:pt x="3221" y="152"/>
                  <a:pt x="3463" y="420"/>
                  <a:pt x="3576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87680" y="1312920"/>
            <a:ext cx="12852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73280" y="1498680"/>
            <a:ext cx="7872120" cy="49514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a ze sprzężeniem: faza 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struktury blokowe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5240" y="2343240"/>
            <a:ext cx="142848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98760" y="32004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17640" y="26258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9720" y="29192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44880" y="25844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46680" y="28782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44880" y="3360600"/>
            <a:ext cx="22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36960" y="3654360"/>
            <a:ext cx="4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5000" y="3376440"/>
            <a:ext cx="308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68480" y="3679920"/>
            <a:ext cx="55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45200" y="230184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38720" y="31590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22880" y="2584440"/>
            <a:ext cx="923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73680" y="2878200"/>
            <a:ext cx="36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85200" y="254304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86640" y="28368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85200" y="3319560"/>
            <a:ext cx="164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77280" y="3613320"/>
            <a:ext cx="47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78360" y="333540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40160" y="3638520"/>
            <a:ext cx="92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5000" y="262584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74960" y="2914560"/>
            <a:ext cx="0" cy="77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45040" y="2583000"/>
            <a:ext cx="0" cy="78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92720" y="2890800"/>
            <a:ext cx="0" cy="75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03520" y="456552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97040" y="5423040"/>
            <a:ext cx="1428840" cy="723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16280" y="484812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8000" y="51418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43520" y="480708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44960" y="510048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43520" y="5583240"/>
            <a:ext cx="23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5600" y="58770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32080" y="5599080"/>
            <a:ext cx="279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48040" y="590220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44680" y="4854600"/>
            <a:ext cx="0" cy="74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62080" y="513720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6160" y="5102280"/>
            <a:ext cx="0" cy="4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0160" y="2892600"/>
            <a:ext cx="0" cy="43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80120" y="4578480"/>
            <a:ext cx="1428840" cy="723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3640" y="543564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95880" y="4861080"/>
            <a:ext cx="9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9240" y="5154480"/>
            <a:ext cx="37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481968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560" y="511344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0120" y="559584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12200" y="58896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03920" y="5611680"/>
            <a:ext cx="38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26120" y="5915160"/>
            <a:ext cx="9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15080" y="5148360"/>
            <a:ext cx="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67520" y="5130720"/>
            <a:ext cx="0" cy="45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56560" y="2538360"/>
            <a:ext cx="0" cy="7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39160" y="2838600"/>
            <a:ext cx="0" cy="7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0" y="26557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4800" y="49323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85160" y="142884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3760" y="142236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69560" y="19447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30480" y="18795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62800" y="41385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71440" y="4175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291280" y="2660760"/>
            <a:ext cx="0" cy="861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348760" y="251424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268880" y="469116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783560" y="470232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632560" y="263844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667480" y="323856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667480" y="489600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667480" y="558288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287440" y="3042720"/>
            <a:ext cx="0" cy="2811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427120" y="5249880"/>
            <a:ext cx="0" cy="2808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22600" y="4737240"/>
            <a:ext cx="3711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51040" y="2543040"/>
            <a:ext cx="371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98160" y="2071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25120" y="1922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ą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22400" y="290844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61280" y="290196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86120" y="515952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13480" y="517860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703600" y="38480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413040" y="373536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849040" y="605628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400800" y="60674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319720" y="4941360"/>
            <a:ext cx="0" cy="862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23000" y="1522440"/>
            <a:ext cx="0" cy="48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95720" y="25369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2760" y="284148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24880" y="25081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1000" y="27846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62160" y="25938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24200" y="28987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95360" y="48229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09880" y="5118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dancja wejściowa i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3960" y="1752480"/>
                <a:ext cx="4805280" cy="35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e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e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y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y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122000" y="16844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86440" y="4113360"/>
            <a:ext cx="47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176560" y="2276640"/>
            <a:ext cx="3848040" cy="11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851200" y="1114560"/>
                <a:ext cx="2795400" cy="21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2417760" y="3498840"/>
            <a:ext cx="428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ia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zy sprzężeniu N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748880" y="4219560"/>
            <a:ext cx="5045040" cy="2168280"/>
            <a:chOff x="1748880" y="4219560"/>
            <a:chExt cx="5045040" cy="2168280"/>
          </a:xfrm>
        </p:grpSpPr>
        <p:sp>
          <p:nvSpPr>
            <p:cNvPr id="359" name=""/>
            <p:cNvSpPr/>
            <p:nvPr/>
          </p:nvSpPr>
          <p:spPr>
            <a:xfrm>
              <a:off x="3341880" y="4219560"/>
              <a:ext cx="1611000" cy="993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36840" y="5396040"/>
              <a:ext cx="1609560" cy="991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0200" y="4606200"/>
              <a:ext cx="7534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24640" y="5010840"/>
              <a:ext cx="4122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66560" y="4551480"/>
              <a:ext cx="775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66560" y="5615640"/>
              <a:ext cx="390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29680" y="5636880"/>
              <a:ext cx="422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32920" y="5030280"/>
              <a:ext cx="1440" cy="60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814120" y="5680800"/>
              <a:ext cx="1440" cy="38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14520" y="4347720"/>
              <a:ext cx="509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5954760" y="5639040"/>
              <a:ext cx="1440" cy="54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77960" y="6193080"/>
              <a:ext cx="315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44200" y="5689800"/>
              <a:ext cx="308880" cy="36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698280" y="5780880"/>
              <a:ext cx="18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40440" y="5617800"/>
              <a:ext cx="35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00440" y="6059160"/>
              <a:ext cx="144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4492800" y="5603400"/>
              <a:ext cx="430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5970240" y="4599360"/>
              <a:ext cx="1440" cy="54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72280" y="4558680"/>
              <a:ext cx="1800" cy="10569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94880" y="4611600"/>
              <a:ext cx="1800" cy="155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72120" y="4768200"/>
              <a:ext cx="378360" cy="45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139720" y="4787280"/>
              <a:ext cx="378720" cy="45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261760" y="5869080"/>
              <a:ext cx="510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48880" y="5070600"/>
              <a:ext cx="729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72280" y="5615640"/>
              <a:ext cx="35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25120" y="4516560"/>
              <a:ext cx="92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77440" y="5609160"/>
              <a:ext cx="81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701880" y="5605200"/>
              <a:ext cx="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01920" y="46202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958480" y="4618800"/>
              <a:ext cx="1440" cy="38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88840" y="987480"/>
            <a:ext cx="7376400" cy="5217480"/>
            <a:chOff x="888840" y="987480"/>
            <a:chExt cx="7376400" cy="5217480"/>
          </a:xfrm>
        </p:grpSpPr>
        <p:sp>
          <p:nvSpPr>
            <p:cNvPr id="391" name=""/>
            <p:cNvSpPr/>
            <p:nvPr/>
          </p:nvSpPr>
          <p:spPr>
            <a:xfrm>
              <a:off x="5469480" y="1422360"/>
              <a:ext cx="279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ryterium BODE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11240" y="116856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1440" y="3473280"/>
              <a:ext cx="49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27600" y="3014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5600" y="987480"/>
              <a:ext cx="77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398" name=""/>
            <p:cNvSpPr/>
            <p:nvPr/>
          </p:nvSpPr>
          <p:spPr>
            <a:xfrm>
              <a:off x="1727280" y="4156200"/>
              <a:ext cx="490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17720" y="4030560"/>
              <a:ext cx="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8840" y="391644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8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17720" y="4173480"/>
              <a:ext cx="4964040" cy="1193760"/>
            </a:xfrm>
            <a:custGeom>
              <a:avLst/>
              <a:gdLst/>
              <a:ahLst/>
              <a:rect l="l" t="t" r="r" b="b"/>
              <a:pathLst>
                <a:path w="2317" h="749">
                  <a:moveTo>
                    <a:pt x="0" y="0"/>
                  </a:moveTo>
                  <a:cubicBezTo>
                    <a:pt x="169" y="6"/>
                    <a:pt x="328" y="15"/>
                    <a:pt x="478" y="44"/>
                  </a:cubicBezTo>
                  <a:cubicBezTo>
                    <a:pt x="628" y="73"/>
                    <a:pt x="793" y="130"/>
                    <a:pt x="901" y="173"/>
                  </a:cubicBezTo>
                  <a:cubicBezTo>
                    <a:pt x="1009" y="216"/>
                    <a:pt x="1051" y="258"/>
                    <a:pt x="1129" y="305"/>
                  </a:cubicBezTo>
                  <a:cubicBezTo>
                    <a:pt x="1207" y="352"/>
                    <a:pt x="1288" y="413"/>
                    <a:pt x="1369" y="455"/>
                  </a:cubicBezTo>
                  <a:cubicBezTo>
                    <a:pt x="1450" y="497"/>
                    <a:pt x="1521" y="522"/>
                    <a:pt x="1615" y="557"/>
                  </a:cubicBezTo>
                  <a:cubicBezTo>
                    <a:pt x="1709" y="592"/>
                    <a:pt x="1816" y="633"/>
                    <a:pt x="1933" y="665"/>
                  </a:cubicBezTo>
                  <a:cubicBezTo>
                    <a:pt x="2050" y="697"/>
                    <a:pt x="2237" y="732"/>
                    <a:pt x="2317" y="7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5240" y="1606680"/>
              <a:ext cx="4492800" cy="1828800"/>
            </a:xfrm>
            <a:custGeom>
              <a:avLst/>
              <a:gdLst/>
              <a:ahLst/>
              <a:rect l="l" t="t" r="r" b="b"/>
              <a:pathLst>
                <a:path w="2097" h="1148">
                  <a:moveTo>
                    <a:pt x="0" y="0"/>
                  </a:moveTo>
                  <a:cubicBezTo>
                    <a:pt x="106" y="2"/>
                    <a:pt x="212" y="5"/>
                    <a:pt x="334" y="11"/>
                  </a:cubicBezTo>
                  <a:cubicBezTo>
                    <a:pt x="456" y="17"/>
                    <a:pt x="608" y="15"/>
                    <a:pt x="734" y="33"/>
                  </a:cubicBezTo>
                  <a:cubicBezTo>
                    <a:pt x="860" y="51"/>
                    <a:pt x="993" y="66"/>
                    <a:pt x="1089" y="122"/>
                  </a:cubicBezTo>
                  <a:cubicBezTo>
                    <a:pt x="1185" y="178"/>
                    <a:pt x="1243" y="256"/>
                    <a:pt x="1312" y="366"/>
                  </a:cubicBezTo>
                  <a:cubicBezTo>
                    <a:pt x="1381" y="476"/>
                    <a:pt x="1443" y="663"/>
                    <a:pt x="1503" y="782"/>
                  </a:cubicBezTo>
                  <a:cubicBezTo>
                    <a:pt x="1563" y="901"/>
                    <a:pt x="1601" y="1023"/>
                    <a:pt x="1671" y="1082"/>
                  </a:cubicBezTo>
                  <a:cubicBezTo>
                    <a:pt x="1741" y="1141"/>
                    <a:pt x="1852" y="1125"/>
                    <a:pt x="1923" y="1136"/>
                  </a:cubicBezTo>
                  <a:cubicBezTo>
                    <a:pt x="1994" y="1147"/>
                    <a:pt x="2061" y="1146"/>
                    <a:pt x="2097" y="1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93960" y="3040200"/>
              <a:ext cx="340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88040" y="304020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928880" y="5025960"/>
              <a:ext cx="33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11640" y="278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00000" y="499752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-360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747800" y="5254560"/>
              <a:ext cx="4610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46200" y="503244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21880" y="4964040"/>
              <a:ext cx="105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gines 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6111720" y="3413160"/>
              <a:ext cx="0" cy="18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23200" y="2387880"/>
              <a:ext cx="1336680" cy="459360"/>
            </a:xfrm>
            <a:prstGeom prst="wedgeRectCallout">
              <a:avLst>
                <a:gd name="adj1" fmla="val -78833"/>
                <a:gd name="adj2" fmla="val 134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gines amplitu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11720" y="301320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25840" y="57452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08560" y="3035160"/>
              <a:ext cx="1041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226680" y="5931000"/>
            <a:ext cx="1969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888840" y="987480"/>
            <a:ext cx="7376400" cy="5403240"/>
            <a:chOff x="888840" y="987480"/>
            <a:chExt cx="7376400" cy="5403240"/>
          </a:xfrm>
        </p:grpSpPr>
        <p:sp>
          <p:nvSpPr>
            <p:cNvPr id="419" name=""/>
            <p:cNvSpPr/>
            <p:nvPr/>
          </p:nvSpPr>
          <p:spPr>
            <a:xfrm>
              <a:off x="5469480" y="1422360"/>
              <a:ext cx="279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ryterium BODE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11240" y="116856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11440" y="3473280"/>
              <a:ext cx="49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27600" y="3014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55600" y="987480"/>
              <a:ext cx="77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26" name=""/>
            <p:cNvSpPr/>
            <p:nvPr/>
          </p:nvSpPr>
          <p:spPr>
            <a:xfrm>
              <a:off x="1727280" y="4156200"/>
              <a:ext cx="490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17720" y="4030560"/>
              <a:ext cx="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88840" y="391644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8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17720" y="4173480"/>
              <a:ext cx="4964040" cy="1193760"/>
            </a:xfrm>
            <a:custGeom>
              <a:avLst/>
              <a:gdLst/>
              <a:ahLst/>
              <a:rect l="l" t="t" r="r" b="b"/>
              <a:pathLst>
                <a:path w="2317" h="749">
                  <a:moveTo>
                    <a:pt x="0" y="0"/>
                  </a:moveTo>
                  <a:cubicBezTo>
                    <a:pt x="169" y="6"/>
                    <a:pt x="328" y="15"/>
                    <a:pt x="478" y="44"/>
                  </a:cubicBezTo>
                  <a:cubicBezTo>
                    <a:pt x="628" y="73"/>
                    <a:pt x="793" y="130"/>
                    <a:pt x="901" y="173"/>
                  </a:cubicBezTo>
                  <a:cubicBezTo>
                    <a:pt x="1009" y="216"/>
                    <a:pt x="1051" y="258"/>
                    <a:pt x="1129" y="305"/>
                  </a:cubicBezTo>
                  <a:cubicBezTo>
                    <a:pt x="1207" y="352"/>
                    <a:pt x="1288" y="413"/>
                    <a:pt x="1369" y="455"/>
                  </a:cubicBezTo>
                  <a:cubicBezTo>
                    <a:pt x="1450" y="497"/>
                    <a:pt x="1521" y="522"/>
                    <a:pt x="1615" y="557"/>
                  </a:cubicBezTo>
                  <a:cubicBezTo>
                    <a:pt x="1709" y="592"/>
                    <a:pt x="1816" y="633"/>
                    <a:pt x="1933" y="665"/>
                  </a:cubicBezTo>
                  <a:cubicBezTo>
                    <a:pt x="2050" y="697"/>
                    <a:pt x="2237" y="732"/>
                    <a:pt x="2317" y="7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65240" y="1606680"/>
              <a:ext cx="4492800" cy="1828800"/>
            </a:xfrm>
            <a:custGeom>
              <a:avLst/>
              <a:gdLst/>
              <a:ahLst/>
              <a:rect l="l" t="t" r="r" b="b"/>
              <a:pathLst>
                <a:path w="2097" h="1148">
                  <a:moveTo>
                    <a:pt x="0" y="0"/>
                  </a:moveTo>
                  <a:cubicBezTo>
                    <a:pt x="106" y="2"/>
                    <a:pt x="212" y="5"/>
                    <a:pt x="334" y="11"/>
                  </a:cubicBezTo>
                  <a:cubicBezTo>
                    <a:pt x="456" y="17"/>
                    <a:pt x="608" y="15"/>
                    <a:pt x="734" y="33"/>
                  </a:cubicBezTo>
                  <a:cubicBezTo>
                    <a:pt x="860" y="51"/>
                    <a:pt x="993" y="66"/>
                    <a:pt x="1089" y="122"/>
                  </a:cubicBezTo>
                  <a:cubicBezTo>
                    <a:pt x="1185" y="178"/>
                    <a:pt x="1243" y="256"/>
                    <a:pt x="1312" y="366"/>
                  </a:cubicBezTo>
                  <a:cubicBezTo>
                    <a:pt x="1381" y="476"/>
                    <a:pt x="1443" y="663"/>
                    <a:pt x="1503" y="782"/>
                  </a:cubicBezTo>
                  <a:cubicBezTo>
                    <a:pt x="1563" y="901"/>
                    <a:pt x="1601" y="1023"/>
                    <a:pt x="1671" y="1082"/>
                  </a:cubicBezTo>
                  <a:cubicBezTo>
                    <a:pt x="1741" y="1141"/>
                    <a:pt x="1852" y="1125"/>
                    <a:pt x="1923" y="1136"/>
                  </a:cubicBezTo>
                  <a:cubicBezTo>
                    <a:pt x="1994" y="1147"/>
                    <a:pt x="2061" y="1146"/>
                    <a:pt x="2097" y="1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93960" y="3040200"/>
              <a:ext cx="31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11640" y="278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00000" y="499752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-360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09800" y="1582560"/>
              <a:ext cx="3930480" cy="1881360"/>
            </a:xfrm>
            <a:custGeom>
              <a:avLst/>
              <a:gdLst/>
              <a:ahLst/>
              <a:rect l="l" t="t" r="r" b="b"/>
              <a:pathLst>
                <a:path w="1835" h="1181">
                  <a:moveTo>
                    <a:pt x="0" y="0"/>
                  </a:moveTo>
                  <a:cubicBezTo>
                    <a:pt x="93" y="2"/>
                    <a:pt x="186" y="8"/>
                    <a:pt x="294" y="11"/>
                  </a:cubicBezTo>
                  <a:cubicBezTo>
                    <a:pt x="402" y="14"/>
                    <a:pt x="525" y="13"/>
                    <a:pt x="647" y="17"/>
                  </a:cubicBezTo>
                  <a:cubicBezTo>
                    <a:pt x="769" y="21"/>
                    <a:pt x="919" y="15"/>
                    <a:pt x="1025" y="35"/>
                  </a:cubicBezTo>
                  <a:cubicBezTo>
                    <a:pt x="1131" y="55"/>
                    <a:pt x="1220" y="19"/>
                    <a:pt x="1283" y="137"/>
                  </a:cubicBezTo>
                  <a:cubicBezTo>
                    <a:pt x="1346" y="255"/>
                    <a:pt x="1368" y="593"/>
                    <a:pt x="1403" y="743"/>
                  </a:cubicBezTo>
                  <a:cubicBezTo>
                    <a:pt x="1438" y="893"/>
                    <a:pt x="1458" y="972"/>
                    <a:pt x="1493" y="1037"/>
                  </a:cubicBezTo>
                  <a:cubicBezTo>
                    <a:pt x="1528" y="1102"/>
                    <a:pt x="1585" y="1113"/>
                    <a:pt x="1613" y="1133"/>
                  </a:cubicBezTo>
                  <a:cubicBezTo>
                    <a:pt x="1641" y="1153"/>
                    <a:pt x="1624" y="1149"/>
                    <a:pt x="1661" y="1157"/>
                  </a:cubicBezTo>
                  <a:cubicBezTo>
                    <a:pt x="1698" y="1165"/>
                    <a:pt x="1799" y="1176"/>
                    <a:pt x="1835" y="1181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43280" y="4173480"/>
              <a:ext cx="4282920" cy="1852560"/>
            </a:xfrm>
            <a:custGeom>
              <a:avLst/>
              <a:gdLst/>
              <a:ahLst/>
              <a:rect l="l" t="t" r="r" b="b"/>
              <a:pathLst>
                <a:path w="1999" h="1163">
                  <a:moveTo>
                    <a:pt x="0" y="0"/>
                  </a:moveTo>
                  <a:cubicBezTo>
                    <a:pt x="85" y="5"/>
                    <a:pt x="358" y="13"/>
                    <a:pt x="511" y="29"/>
                  </a:cubicBezTo>
                  <a:cubicBezTo>
                    <a:pt x="664" y="45"/>
                    <a:pt x="807" y="53"/>
                    <a:pt x="919" y="95"/>
                  </a:cubicBezTo>
                  <a:cubicBezTo>
                    <a:pt x="1031" y="137"/>
                    <a:pt x="1110" y="200"/>
                    <a:pt x="1183" y="281"/>
                  </a:cubicBezTo>
                  <a:cubicBezTo>
                    <a:pt x="1256" y="362"/>
                    <a:pt x="1312" y="494"/>
                    <a:pt x="1357" y="581"/>
                  </a:cubicBezTo>
                  <a:cubicBezTo>
                    <a:pt x="1402" y="668"/>
                    <a:pt x="1420" y="743"/>
                    <a:pt x="1453" y="803"/>
                  </a:cubicBezTo>
                  <a:cubicBezTo>
                    <a:pt x="1486" y="863"/>
                    <a:pt x="1503" y="894"/>
                    <a:pt x="1555" y="941"/>
                  </a:cubicBezTo>
                  <a:cubicBezTo>
                    <a:pt x="1607" y="988"/>
                    <a:pt x="1691" y="1048"/>
                    <a:pt x="1765" y="1085"/>
                  </a:cubicBezTo>
                  <a:cubicBezTo>
                    <a:pt x="1839" y="1122"/>
                    <a:pt x="1950" y="1147"/>
                    <a:pt x="1999" y="1163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18040" y="3059280"/>
              <a:ext cx="0" cy="234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747800" y="5254560"/>
              <a:ext cx="4610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25840" y="57452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25600" y="5931000"/>
              <a:ext cx="2343240" cy="459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kład niestabil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miary transmitancji K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530600" y="1676520"/>
                <a:ext cx="1521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-19080" y="1600200"/>
                <a:ext cx="15192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638600" y="4724280"/>
                <a:ext cx="14986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27000" y="4648320"/>
                <a:ext cx="1479600" cy="14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46" name=""/>
          <p:cNvGrpSpPr/>
          <p:nvPr/>
        </p:nvGrpSpPr>
        <p:grpSpPr>
          <a:xfrm>
            <a:off x="1693800" y="1111320"/>
            <a:ext cx="7080120" cy="4795560"/>
            <a:chOff x="1693800" y="1111320"/>
            <a:chExt cx="7080120" cy="4795560"/>
          </a:xfrm>
        </p:grpSpPr>
        <p:grpSp>
          <p:nvGrpSpPr>
            <p:cNvPr id="447" name=""/>
            <p:cNvGrpSpPr/>
            <p:nvPr/>
          </p:nvGrpSpPr>
          <p:grpSpPr>
            <a:xfrm>
              <a:off x="6254640" y="4106880"/>
              <a:ext cx="2519280" cy="1800000"/>
              <a:chOff x="6254640" y="4106880"/>
              <a:chExt cx="2519280" cy="1800000"/>
            </a:xfrm>
          </p:grpSpPr>
          <p:sp>
            <p:nvSpPr>
              <p:cNvPr id="448" name=""/>
              <p:cNvSpPr/>
              <p:nvPr/>
            </p:nvSpPr>
            <p:spPr>
              <a:xfrm>
                <a:off x="6869160" y="4472640"/>
                <a:ext cx="1278000" cy="6562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863760" y="5250240"/>
                <a:ext cx="1278000" cy="656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54640" y="472896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528600" y="4995360"/>
                <a:ext cx="335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157600" y="469152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59040" y="4957920"/>
                <a:ext cx="30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157600" y="5395680"/>
                <a:ext cx="309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532920" y="5410080"/>
                <a:ext cx="34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42640" y="4989600"/>
                <a:ext cx="0" cy="41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68640" y="4973760"/>
                <a:ext cx="0" cy="41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220520" y="41068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8303400" y="458496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410520" y="4760640"/>
                <a:ext cx="0" cy="254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419160" y="5476320"/>
                <a:ext cx="0" cy="254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074000" y="4654080"/>
                <a:ext cx="7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7092360" y="5425920"/>
                <a:ext cx="75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267240" y="5771520"/>
                <a:ext cx="243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1751040" y="4030560"/>
              <a:ext cx="2518920" cy="1800000"/>
              <a:chOff x="1751040" y="4030560"/>
              <a:chExt cx="2518920" cy="1800000"/>
            </a:xfrm>
          </p:grpSpPr>
          <p:sp>
            <p:nvSpPr>
              <p:cNvPr id="466" name=""/>
              <p:cNvSpPr/>
              <p:nvPr/>
            </p:nvSpPr>
            <p:spPr>
              <a:xfrm>
                <a:off x="2365560" y="4413600"/>
                <a:ext cx="1278000" cy="6483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60160" y="5181840"/>
                <a:ext cx="1277640" cy="648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751040" y="466668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53640" y="462960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655080" y="4893120"/>
                <a:ext cx="224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653640" y="5325480"/>
                <a:ext cx="207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84240" y="5339520"/>
                <a:ext cx="479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895760" y="4672080"/>
                <a:ext cx="0" cy="66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71080" y="4894200"/>
                <a:ext cx="0" cy="42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687760" y="403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3854880" y="452556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1944000" y="4983480"/>
                <a:ext cx="0" cy="2516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12040" y="455832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18280" y="4595400"/>
                <a:ext cx="7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2568960" y="5339520"/>
                <a:ext cx="75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00360" y="5694120"/>
                <a:ext cx="2436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48600" y="4637880"/>
                <a:ext cx="68040" cy="6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6207120" y="1114560"/>
              <a:ext cx="2518920" cy="1799640"/>
              <a:chOff x="6207120" y="1114560"/>
              <a:chExt cx="2518920" cy="179964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6207120" y="1114560"/>
                <a:ext cx="2518920" cy="1799640"/>
                <a:chOff x="6207120" y="1114560"/>
                <a:chExt cx="2518920" cy="17996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821640" y="1467360"/>
                  <a:ext cx="1278000" cy="66240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815880" y="2251800"/>
                  <a:ext cx="1278000" cy="66240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207120" y="1726200"/>
                  <a:ext cx="615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489360" y="1994760"/>
                  <a:ext cx="326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8110080" y="1688400"/>
                  <a:ext cx="615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110080" y="2398680"/>
                  <a:ext cx="147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493680" y="2413080"/>
                  <a:ext cx="335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5120" y="2007720"/>
                  <a:ext cx="0" cy="402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263440" y="1684080"/>
                  <a:ext cx="0" cy="70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234560" y="1114560"/>
                  <a:ext cx="56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6405840" y="1757880"/>
                  <a:ext cx="0" cy="2566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6402600" y="2443680"/>
                  <a:ext cx="0" cy="2570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027560" y="164196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7019280" y="240876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8595720" y="1797120"/>
                  <a:ext cx="0" cy="8582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284880" y="278352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8210520" y="1649520"/>
                <a:ext cx="763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693800" y="1111320"/>
              <a:ext cx="2518920" cy="1799640"/>
              <a:chOff x="1693800" y="1111320"/>
              <a:chExt cx="2518920" cy="179964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1693800" y="1111320"/>
                <a:ext cx="2518920" cy="1799640"/>
                <a:chOff x="1693800" y="1111320"/>
                <a:chExt cx="2518920" cy="179964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08680" y="1455120"/>
                  <a:ext cx="1277640" cy="66672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302920" y="2244240"/>
                  <a:ext cx="1278000" cy="6667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693800" y="171540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596400" y="167724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596400" y="2391840"/>
                  <a:ext cx="198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1886760" y="2406600"/>
                  <a:ext cx="428760" cy="8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886760" y="1715400"/>
                  <a:ext cx="0" cy="69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783960" y="1663920"/>
                  <a:ext cx="0" cy="73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623320" y="1111320"/>
                  <a:ext cx="60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4127760" y="1763280"/>
                  <a:ext cx="0" cy="864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1952280" y="2072880"/>
                  <a:ext cx="0" cy="2588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967760" y="1595160"/>
                  <a:ext cx="332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575800" y="165960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2469240" y="239364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712160" y="278820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854360" y="1674000"/>
                  <a:ext cx="67680" cy="68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3745080" y="1633680"/>
                <a:ext cx="759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3984480" y="493092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575560" y="501660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e idealnych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530600" y="1676520"/>
                <a:ext cx="1521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6680" y="1612800"/>
                <a:ext cx="15192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638600" y="4724280"/>
                <a:ext cx="14986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87200" y="4624560"/>
                <a:ext cx="1479600" cy="14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6869160" y="4471920"/>
            <a:ext cx="1278000" cy="657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4480" y="5249880"/>
            <a:ext cx="1277640" cy="65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54640" y="472932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529320" y="499572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158320" y="469116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159760" y="495792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158320" y="5396040"/>
            <a:ext cx="30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532560" y="5410080"/>
            <a:ext cx="344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43720" y="4989600"/>
            <a:ext cx="0" cy="41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69360" y="4973760"/>
            <a:ext cx="0" cy="41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20520" y="4106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8304120" y="4584600"/>
            <a:ext cx="331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410160" y="4760640"/>
            <a:ext cx="0" cy="253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419880" y="5476680"/>
            <a:ext cx="0" cy="253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074000" y="465444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67600" y="577224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65200" y="4413240"/>
            <a:ext cx="1278000" cy="649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360520" y="5181480"/>
            <a:ext cx="127800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51040" y="466740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54360" y="462924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656160" y="4892760"/>
            <a:ext cx="22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4360" y="5326200"/>
            <a:ext cx="20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84240" y="5340240"/>
            <a:ext cx="47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95400" y="4672080"/>
            <a:ext cx="0" cy="66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71800" y="4894200"/>
            <a:ext cx="0" cy="42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88120" y="40305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55960" y="4525920"/>
            <a:ext cx="331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44720" y="4984920"/>
            <a:ext cx="0" cy="250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13120" y="4559400"/>
            <a:ext cx="3315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19360" y="45957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00360" y="569448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49320" y="4638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21640" y="1467000"/>
            <a:ext cx="127764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16600" y="225252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07120" y="172548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89720" y="1995480"/>
            <a:ext cx="326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110440" y="168912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110440" y="2398680"/>
            <a:ext cx="147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94400" y="241308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96200" y="2008080"/>
            <a:ext cx="0" cy="40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263080" y="1684440"/>
            <a:ext cx="0" cy="70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35280" y="11145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405480" y="175752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402240" y="244332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27920" y="164160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8596440" y="1796760"/>
            <a:ext cx="0" cy="85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84880" y="278460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210520" y="1649520"/>
            <a:ext cx="763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308320" y="1454040"/>
            <a:ext cx="1278000" cy="668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03640" y="2244600"/>
            <a:ext cx="127764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93800" y="171468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97120" y="167796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97120" y="2392200"/>
            <a:ext cx="19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887480" y="2406240"/>
            <a:ext cx="4287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87480" y="1714680"/>
            <a:ext cx="0" cy="69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784680" y="1663560"/>
            <a:ext cx="0" cy="73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23320" y="1111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127400" y="1763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952640" y="207288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68480" y="1595520"/>
            <a:ext cx="331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576520" y="165888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712880" y="278928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5436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45080" y="1633680"/>
            <a:ext cx="7596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451240" y="2428920"/>
            <a:ext cx="198360" cy="298440"/>
            <a:chOff x="2451240" y="2428920"/>
            <a:chExt cx="198360" cy="298440"/>
          </a:xfrm>
        </p:grpSpPr>
        <p:sp>
          <p:nvSpPr>
            <p:cNvPr id="594" name=""/>
            <p:cNvSpPr/>
            <p:nvPr/>
          </p:nvSpPr>
          <p:spPr>
            <a:xfrm>
              <a:off x="2451240" y="242892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2550240" y="247824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51240" y="252828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517840" y="5359320"/>
            <a:ext cx="198360" cy="298440"/>
            <a:chOff x="2517840" y="5359320"/>
            <a:chExt cx="198360" cy="298440"/>
          </a:xfrm>
        </p:grpSpPr>
        <p:sp>
          <p:nvSpPr>
            <p:cNvPr id="598" name=""/>
            <p:cNvSpPr/>
            <p:nvPr/>
          </p:nvSpPr>
          <p:spPr>
            <a:xfrm>
              <a:off x="2517840" y="535932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2616840" y="540864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17840" y="545868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6981840" y="2448000"/>
            <a:ext cx="24444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104240" y="2509560"/>
            <a:ext cx="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048440" y="5457960"/>
            <a:ext cx="244440" cy="244440"/>
            <a:chOff x="7048440" y="5457960"/>
            <a:chExt cx="244440" cy="244440"/>
          </a:xfrm>
        </p:grpSpPr>
        <p:sp>
          <p:nvSpPr>
            <p:cNvPr id="604" name=""/>
            <p:cNvSpPr/>
            <p:nvPr/>
          </p:nvSpPr>
          <p:spPr>
            <a:xfrm>
              <a:off x="7048440" y="5457960"/>
              <a:ext cx="244440" cy="244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170840" y="551880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305080" y="2419200"/>
            <a:ext cx="25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52760" y="271476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2320" y="5343480"/>
            <a:ext cx="25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610000" y="5657760"/>
            <a:ext cx="936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19840" y="240048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67360" y="541008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095960" y="240048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105680" y="26956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153200" y="5410080"/>
            <a:ext cx="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172280" y="571500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3228480" y="23907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733880" y="23907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3304800" y="53244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838640" y="53910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05160" y="53244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41008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84480" y="4930920"/>
            <a:ext cx="0" cy="331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575560" y="5016600"/>
            <a:ext cx="0" cy="331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impedancji generatora na działan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ętli ujemnego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4514760" y="432756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6470640" y="2587680"/>
            <a:ext cx="127800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65960" y="337356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856120" y="284652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43760" y="353376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78520" y="116856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6054840" y="28782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6051600" y="35640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676920" y="2762280"/>
            <a:ext cx="7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952880" y="3905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36680" y="2587680"/>
            <a:ext cx="1278000" cy="668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32000" y="3378240"/>
            <a:ext cx="127800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17760" y="28479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16200" y="28479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25200" y="114624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1881360" y="3206880"/>
            <a:ext cx="0" cy="258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97200" y="2728800"/>
            <a:ext cx="331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05240" y="2792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0880" y="3922560"/>
            <a:ext cx="182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82720" y="28083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379600" y="3562200"/>
            <a:ext cx="198360" cy="298440"/>
            <a:chOff x="2379600" y="3562200"/>
            <a:chExt cx="198360" cy="298440"/>
          </a:xfrm>
        </p:grpSpPr>
        <p:sp>
          <p:nvSpPr>
            <p:cNvPr id="646" name=""/>
            <p:cNvSpPr/>
            <p:nvPr/>
          </p:nvSpPr>
          <p:spPr>
            <a:xfrm>
              <a:off x="2379600" y="356220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2478600" y="361152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79600" y="366156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6630840" y="3568680"/>
            <a:ext cx="24480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753240" y="36306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81120" y="384804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69200" y="35211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745320" y="352116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754680" y="381636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6840" y="4505400"/>
            <a:ext cx="3146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721400" y="4540320"/>
            <a:ext cx="368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85800" y="2778120"/>
            <a:ext cx="910800" cy="122400"/>
            <a:chOff x="685800" y="2778120"/>
            <a:chExt cx="910800" cy="122400"/>
          </a:xfrm>
        </p:grpSpPr>
        <p:sp>
          <p:nvSpPr>
            <p:cNvPr id="658" name=""/>
            <p:cNvSpPr/>
            <p:nvPr/>
          </p:nvSpPr>
          <p:spPr>
            <a:xfrm>
              <a:off x="928440" y="277812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53600" y="2839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5800" y="283932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4984920" y="2782800"/>
            <a:ext cx="910800" cy="122400"/>
            <a:chOff x="4984920" y="2782800"/>
            <a:chExt cx="910800" cy="122400"/>
          </a:xfrm>
        </p:grpSpPr>
        <p:sp>
          <p:nvSpPr>
            <p:cNvPr id="662" name=""/>
            <p:cNvSpPr/>
            <p:nvPr/>
          </p:nvSpPr>
          <p:spPr>
            <a:xfrm>
              <a:off x="5227560" y="27828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52720" y="28440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984920" y="28440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1817640" y="35481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6149880" y="313992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0" y="313992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5840" y="290340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81480" y="291456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36680" y="3218040"/>
            <a:ext cx="487080" cy="485640"/>
            <a:chOff x="436680" y="3218040"/>
            <a:chExt cx="487080" cy="485640"/>
          </a:xfrm>
        </p:grpSpPr>
        <p:sp>
          <p:nvSpPr>
            <p:cNvPr id="671" name=""/>
            <p:cNvSpPr/>
            <p:nvPr/>
          </p:nvSpPr>
          <p:spPr>
            <a:xfrm>
              <a:off x="436680" y="3218040"/>
              <a:ext cx="48708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680400" y="333900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V="1">
            <a:off x="655560" y="36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6746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4749840" y="3209760"/>
            <a:ext cx="487440" cy="486000"/>
            <a:chOff x="4749840" y="3209760"/>
            <a:chExt cx="487440" cy="486000"/>
          </a:xfrm>
        </p:grpSpPr>
        <p:sp>
          <p:nvSpPr>
            <p:cNvPr id="676" name=""/>
            <p:cNvSpPr/>
            <p:nvPr/>
          </p:nvSpPr>
          <p:spPr>
            <a:xfrm>
              <a:off x="4749840" y="3209760"/>
              <a:ext cx="487440" cy="48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993560" y="3330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 flipV="1">
            <a:off x="4968720" y="3682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987800" y="2835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14400" y="3360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79680" y="33908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5892840" y="1841400"/>
            <a:ext cx="91440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95560" y="1371600"/>
            <a:ext cx="11304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598320" y="5369040"/>
                <a:ext cx="2289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2920320" y="749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1943280" y="3571920"/>
                <a:ext cx="1215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944640" y="2500200"/>
            <a:ext cx="910800" cy="122400"/>
            <a:chOff x="944640" y="2500200"/>
            <a:chExt cx="910800" cy="122400"/>
          </a:xfrm>
        </p:grpSpPr>
        <p:sp>
          <p:nvSpPr>
            <p:cNvPr id="689" name=""/>
            <p:cNvSpPr/>
            <p:nvPr/>
          </p:nvSpPr>
          <p:spPr>
            <a:xfrm>
              <a:off x="1187280" y="25002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12440" y="2561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44640" y="25614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2120760" y="2317680"/>
            <a:ext cx="974880" cy="1034640"/>
            <a:chOff x="2120760" y="2317680"/>
            <a:chExt cx="974880" cy="1034640"/>
          </a:xfrm>
        </p:grpSpPr>
        <p:sp>
          <p:nvSpPr>
            <p:cNvPr id="693" name=""/>
            <p:cNvSpPr/>
            <p:nvPr/>
          </p:nvSpPr>
          <p:spPr>
            <a:xfrm>
              <a:off x="2120760" y="2317680"/>
              <a:ext cx="974880" cy="1034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89880" y="263592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89880" y="30340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2259720" y="2954160"/>
              <a:ext cx="0" cy="15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457200" y="2793960"/>
            <a:ext cx="487440" cy="485640"/>
            <a:chOff x="457200" y="2793960"/>
            <a:chExt cx="487440" cy="485640"/>
          </a:xfrm>
        </p:grpSpPr>
        <p:sp>
          <p:nvSpPr>
            <p:cNvPr id="698" name=""/>
            <p:cNvSpPr/>
            <p:nvPr/>
          </p:nvSpPr>
          <p:spPr>
            <a:xfrm>
              <a:off x="457200" y="2793960"/>
              <a:ext cx="48744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700920" y="29149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175752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165400" y="1635120"/>
            <a:ext cx="912240" cy="122400"/>
            <a:chOff x="2165400" y="1635120"/>
            <a:chExt cx="912240" cy="122400"/>
          </a:xfrm>
        </p:grpSpPr>
        <p:sp>
          <p:nvSpPr>
            <p:cNvPr id="702" name=""/>
            <p:cNvSpPr/>
            <p:nvPr/>
          </p:nvSpPr>
          <p:spPr>
            <a:xfrm>
              <a:off x="2408400" y="163512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834280" y="16963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65400" y="1696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1928880" y="169560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95640" y="279396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3338640" y="170820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78120" y="3110040"/>
            <a:ext cx="242640" cy="4251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192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699840" y="25621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0200" y="256212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0200" y="329256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960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82800" y="254484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46920" y="175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143360" y="202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15920" y="27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338640" y="2844720"/>
            <a:ext cx="0" cy="6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00280" y="2511360"/>
            <a:ext cx="263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65160" y="2144880"/>
            <a:ext cx="0" cy="264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98600" y="264312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192640" y="5369040"/>
                <a:ext cx="2640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5438880" y="4665600"/>
                <a:ext cx="26082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3" name=""/>
          <p:cNvSpPr/>
          <p:nvPr/>
        </p:nvSpPr>
        <p:spPr>
          <a:xfrm>
            <a:off x="4495680" y="41641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72720" y="50022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419720" y="1143000"/>
            <a:ext cx="3533760" cy="2400480"/>
            <a:chOff x="4419720" y="1143000"/>
            <a:chExt cx="3533760" cy="2400480"/>
          </a:xfrm>
        </p:grpSpPr>
        <p:grpSp>
          <p:nvGrpSpPr>
            <p:cNvPr id="726" name=""/>
            <p:cNvGrpSpPr/>
            <p:nvPr/>
          </p:nvGrpSpPr>
          <p:grpSpPr>
            <a:xfrm>
              <a:off x="6792120" y="2667600"/>
              <a:ext cx="182880" cy="365760"/>
              <a:chOff x="6792120" y="2667600"/>
              <a:chExt cx="182880" cy="365760"/>
            </a:xfrm>
          </p:grpSpPr>
          <p:sp>
            <p:nvSpPr>
              <p:cNvPr id="727" name=""/>
              <p:cNvSpPr/>
              <p:nvPr/>
            </p:nvSpPr>
            <p:spPr>
              <a:xfrm>
                <a:off x="6792120" y="2667600"/>
                <a:ext cx="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792120" y="285048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6792120" y="266760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6185160" y="2484360"/>
              <a:ext cx="0" cy="265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58560" y="2789280"/>
              <a:ext cx="20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953480" y="2301120"/>
              <a:ext cx="0" cy="690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6060600" y="2240640"/>
              <a:ext cx="914040" cy="122040"/>
              <a:chOff x="6060600" y="2240640"/>
              <a:chExt cx="914040" cy="122040"/>
            </a:xfrm>
          </p:grpSpPr>
          <p:sp>
            <p:nvSpPr>
              <p:cNvPr id="734" name=""/>
              <p:cNvSpPr/>
              <p:nvPr/>
            </p:nvSpPr>
            <p:spPr>
              <a:xfrm>
                <a:off x="6303960" y="224064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730920" y="230148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060600" y="230148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6914520" y="1386720"/>
              <a:ext cx="121680" cy="914040"/>
              <a:chOff x="6914520" y="1386720"/>
              <a:chExt cx="121680" cy="914040"/>
            </a:xfrm>
          </p:grpSpPr>
          <p:sp>
            <p:nvSpPr>
              <p:cNvPr id="738" name=""/>
              <p:cNvSpPr/>
              <p:nvPr/>
            </p:nvSpPr>
            <p:spPr>
              <a:xfrm rot="5400000">
                <a:off x="6761880" y="1782360"/>
                <a:ext cx="426600" cy="121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975360" y="2057040"/>
                <a:ext cx="0" cy="24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975360" y="138672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975000" y="230148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63120" y="23014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6060600" y="285048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75000" y="303336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53320" y="3521160"/>
              <a:ext cx="2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4660920" y="2789280"/>
              <a:ext cx="914040" cy="122040"/>
              <a:chOff x="4660920" y="2789280"/>
              <a:chExt cx="914040" cy="122040"/>
            </a:xfrm>
          </p:grpSpPr>
          <p:sp>
            <p:nvSpPr>
              <p:cNvPr id="747" name=""/>
              <p:cNvSpPr/>
              <p:nvPr/>
            </p:nvSpPr>
            <p:spPr>
              <a:xfrm>
                <a:off x="4904280" y="278928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331240" y="285012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660920" y="285012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4419720" y="2924280"/>
              <a:ext cx="487440" cy="487440"/>
              <a:chOff x="4419720" y="2924280"/>
              <a:chExt cx="487440" cy="487440"/>
            </a:xfrm>
          </p:grpSpPr>
          <p:sp>
            <p:nvSpPr>
              <p:cNvPr id="751" name=""/>
              <p:cNvSpPr/>
              <p:nvPr/>
            </p:nvSpPr>
            <p:spPr>
              <a:xfrm>
                <a:off x="4419720" y="2924280"/>
                <a:ext cx="487440" cy="487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4663440" y="30456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4973400" y="29721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60920" y="285048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39240" y="3521160"/>
              <a:ext cx="24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60920" y="339912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39480" y="23346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39160" y="1785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168320" y="16916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31800" y="2268360"/>
              <a:ext cx="608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30360" y="2817360"/>
              <a:ext cx="6048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914520" y="1265040"/>
              <a:ext cx="121680" cy="12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37280" y="114300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U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72960" y="254556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7282800" y="24235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107840" y="30333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5575320" y="2728440"/>
              <a:ext cx="60840" cy="243720"/>
              <a:chOff x="5575320" y="2728440"/>
              <a:chExt cx="60840" cy="243720"/>
            </a:xfrm>
          </p:grpSpPr>
          <p:sp>
            <p:nvSpPr>
              <p:cNvPr id="768" name=""/>
              <p:cNvSpPr/>
              <p:nvPr/>
            </p:nvSpPr>
            <p:spPr>
              <a:xfrm>
                <a:off x="557532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63616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 flipH="1">
              <a:off x="5636160" y="2850480"/>
              <a:ext cx="4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77880" y="2301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7343640" y="2179800"/>
              <a:ext cx="60840" cy="243720"/>
              <a:chOff x="7343640" y="2179800"/>
              <a:chExt cx="60840" cy="243720"/>
            </a:xfrm>
          </p:grpSpPr>
          <p:sp>
            <p:nvSpPr>
              <p:cNvPr id="773" name=""/>
              <p:cNvSpPr/>
              <p:nvPr/>
            </p:nvSpPr>
            <p:spPr>
              <a:xfrm>
                <a:off x="734364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40448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7404480" y="230148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48560" y="2240640"/>
              <a:ext cx="12168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1828800" y="2565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1943280" y="1701720"/>
            <a:ext cx="26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048120" y="17017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80800" y="12668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928840" y="18381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446640" y="1371600"/>
                <a:ext cx="87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5927760" y="3192480"/>
            <a:ext cx="1994040" cy="676080"/>
          </a:xfrm>
          <a:custGeom>
            <a:avLst/>
            <a:gdLst/>
            <a:ahLst/>
            <a:rect l="l" t="t" r="r" b="b"/>
            <a:pathLst>
              <a:path w="1256" h="426">
                <a:moveTo>
                  <a:pt x="0" y="44"/>
                </a:moveTo>
                <a:cubicBezTo>
                  <a:pt x="39" y="89"/>
                  <a:pt x="131" y="248"/>
                  <a:pt x="233" y="311"/>
                </a:cubicBezTo>
                <a:cubicBezTo>
                  <a:pt x="335" y="374"/>
                  <a:pt x="487" y="418"/>
                  <a:pt x="611" y="422"/>
                </a:cubicBezTo>
                <a:cubicBezTo>
                  <a:pt x="735" y="426"/>
                  <a:pt x="870" y="403"/>
                  <a:pt x="978" y="333"/>
                </a:cubicBezTo>
                <a:cubicBezTo>
                  <a:pt x="1086" y="263"/>
                  <a:pt x="1198" y="69"/>
                  <a:pt x="1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570360" y="38592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446640" y="29685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123400" y="24652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17240" y="2119320"/>
            <a:ext cx="4799880" cy="240408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&lt;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  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przężenie ujem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&gt;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  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przężenie dodat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=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z sprzę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851360" y="3352680"/>
            <a:ext cx="2070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" y="1523880"/>
            <a:ext cx="274320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68040" y="7239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5133960" y="5688000"/>
                <a:ext cx="24004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92" name=""/>
          <p:cNvGrpSpPr/>
          <p:nvPr/>
        </p:nvGrpSpPr>
        <p:grpSpPr>
          <a:xfrm>
            <a:off x="5800680" y="2833200"/>
            <a:ext cx="182520" cy="365760"/>
            <a:chOff x="5800680" y="2833200"/>
            <a:chExt cx="182520" cy="365760"/>
          </a:xfrm>
        </p:grpSpPr>
        <p:sp>
          <p:nvSpPr>
            <p:cNvPr id="793" name=""/>
            <p:cNvSpPr/>
            <p:nvPr/>
          </p:nvSpPr>
          <p:spPr>
            <a:xfrm>
              <a:off x="5800680" y="28335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00680" y="30160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800680" y="2833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 flipH="1" flipV="1">
            <a:off x="8053560" y="3533760"/>
            <a:ext cx="144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4520880" y="2101680"/>
            <a:ext cx="120600" cy="914040"/>
            <a:chOff x="4520880" y="2101680"/>
            <a:chExt cx="120600" cy="914040"/>
          </a:xfrm>
        </p:grpSpPr>
        <p:sp>
          <p:nvSpPr>
            <p:cNvPr id="798" name=""/>
            <p:cNvSpPr/>
            <p:nvPr/>
          </p:nvSpPr>
          <p:spPr>
            <a:xfrm rot="5400000">
              <a:off x="4367880" y="249804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81360" y="27720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581360" y="210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921280" y="1554120"/>
            <a:ext cx="122400" cy="912600"/>
            <a:chOff x="5921280" y="1554120"/>
            <a:chExt cx="122400" cy="912600"/>
          </a:xfrm>
        </p:grpSpPr>
        <p:sp>
          <p:nvSpPr>
            <p:cNvPr id="802" name=""/>
            <p:cNvSpPr/>
            <p:nvPr/>
          </p:nvSpPr>
          <p:spPr>
            <a:xfrm rot="5400000">
              <a:off x="5769360" y="194868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82480" y="22233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82480" y="15541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5983200" y="246708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4579560" y="30160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64400" y="4264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17000" y="28940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183000" y="18590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38920" y="243540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40320" y="2986200"/>
            <a:ext cx="601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002080" y="13716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7569360" y="3351240"/>
            <a:ext cx="60120" cy="243000"/>
            <a:chOff x="7569360" y="3351240"/>
            <a:chExt cx="60120" cy="243000"/>
          </a:xfrm>
        </p:grpSpPr>
        <p:sp>
          <p:nvSpPr>
            <p:cNvPr id="814" name=""/>
            <p:cNvSpPr/>
            <p:nvPr/>
          </p:nvSpPr>
          <p:spPr>
            <a:xfrm>
              <a:off x="756936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2948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 flipV="1">
            <a:off x="5738760" y="377640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899400" y="2284560"/>
            <a:ext cx="182520" cy="366840"/>
            <a:chOff x="6899400" y="2284560"/>
            <a:chExt cx="182520" cy="366840"/>
          </a:xfrm>
        </p:grpSpPr>
        <p:sp>
          <p:nvSpPr>
            <p:cNvPr id="818" name=""/>
            <p:cNvSpPr/>
            <p:nvPr/>
          </p:nvSpPr>
          <p:spPr>
            <a:xfrm flipV="1">
              <a:off x="6899400" y="2284560"/>
              <a:ext cx="0" cy="36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6899400" y="22845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899400" y="24681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985000" y="24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85000" y="1554120"/>
            <a:ext cx="19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081920" y="1554120"/>
            <a:ext cx="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7021080" y="3351240"/>
            <a:ext cx="120600" cy="912600"/>
            <a:chOff x="7021080" y="3351240"/>
            <a:chExt cx="120600" cy="912600"/>
          </a:xfrm>
        </p:grpSpPr>
        <p:sp>
          <p:nvSpPr>
            <p:cNvPr id="825" name=""/>
            <p:cNvSpPr/>
            <p:nvPr/>
          </p:nvSpPr>
          <p:spPr>
            <a:xfrm rot="5400000">
              <a:off x="68684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815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15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6959520" y="4264200"/>
            <a:ext cx="244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5924520" y="3351240"/>
            <a:ext cx="122400" cy="912600"/>
            <a:chOff x="5924520" y="3351240"/>
            <a:chExt cx="122400" cy="912600"/>
          </a:xfrm>
        </p:grpSpPr>
        <p:sp>
          <p:nvSpPr>
            <p:cNvPr id="830" name=""/>
            <p:cNvSpPr/>
            <p:nvPr/>
          </p:nvSpPr>
          <p:spPr>
            <a:xfrm rot="5400000">
              <a:off x="5772600" y="374580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8572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8572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7081920" y="265104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6167520" y="3411360"/>
            <a:ext cx="914040" cy="122400"/>
            <a:chOff x="6167520" y="3411360"/>
            <a:chExt cx="914040" cy="122400"/>
          </a:xfrm>
        </p:grpSpPr>
        <p:sp>
          <p:nvSpPr>
            <p:cNvPr id="835" name=""/>
            <p:cNvSpPr/>
            <p:nvPr/>
          </p:nvSpPr>
          <p:spPr>
            <a:xfrm>
              <a:off x="641088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3784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6752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 flipH="1">
            <a:off x="5984640" y="34732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4520880" y="3351240"/>
            <a:ext cx="120600" cy="912600"/>
            <a:chOff x="4520880" y="3351240"/>
            <a:chExt cx="120600" cy="912600"/>
          </a:xfrm>
        </p:grpSpPr>
        <p:sp>
          <p:nvSpPr>
            <p:cNvPr id="840" name=""/>
            <p:cNvSpPr/>
            <p:nvPr/>
          </p:nvSpPr>
          <p:spPr>
            <a:xfrm rot="5400000">
              <a:off x="43682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5813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5813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445932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581360" y="3015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581360" y="155412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581360" y="155376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081920" y="34732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629480" y="34732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4946760" y="3776760"/>
            <a:ext cx="244440" cy="61920"/>
            <a:chOff x="4946760" y="3776760"/>
            <a:chExt cx="244440" cy="61920"/>
          </a:xfrm>
        </p:grpSpPr>
        <p:sp>
          <p:nvSpPr>
            <p:cNvPr id="850" name=""/>
            <p:cNvSpPr/>
            <p:nvPr/>
          </p:nvSpPr>
          <p:spPr>
            <a:xfrm>
              <a:off x="4946760" y="383868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46760" y="377676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068800" y="3411360"/>
            <a:ext cx="914040" cy="122400"/>
            <a:chOff x="5068800" y="3411360"/>
            <a:chExt cx="914040" cy="122400"/>
          </a:xfrm>
        </p:grpSpPr>
        <p:sp>
          <p:nvSpPr>
            <p:cNvPr id="853" name=""/>
            <p:cNvSpPr/>
            <p:nvPr/>
          </p:nvSpPr>
          <p:spPr>
            <a:xfrm>
              <a:off x="531216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73912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6880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5068800" y="34732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68800" y="383868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94676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47000" y="3440160"/>
            <a:ext cx="601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940360" y="34304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848720" y="152388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850160" y="341136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056360" y="1521000"/>
            <a:ext cx="60480" cy="61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112440" y="3656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279920" y="365616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 flipV="1">
            <a:off x="5594040" y="312120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605040" y="335268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50080" y="15112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110800" y="3576600"/>
            <a:ext cx="694440" cy="510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680640" y="3581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092480" y="2901960"/>
            <a:ext cx="61920" cy="243000"/>
            <a:chOff x="4092480" y="2901960"/>
            <a:chExt cx="61920" cy="243000"/>
          </a:xfrm>
        </p:grpSpPr>
        <p:sp>
          <p:nvSpPr>
            <p:cNvPr id="872" name=""/>
            <p:cNvSpPr/>
            <p:nvPr/>
          </p:nvSpPr>
          <p:spPr>
            <a:xfrm>
              <a:off x="409248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5440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 flipH="1">
            <a:off x="4154400" y="30178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605040" y="30178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544920" y="295740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563400" y="5688000"/>
                <a:ext cx="23162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78" name=""/>
          <p:cNvGrpSpPr/>
          <p:nvPr/>
        </p:nvGrpSpPr>
        <p:grpSpPr>
          <a:xfrm>
            <a:off x="1584360" y="2198520"/>
            <a:ext cx="974520" cy="1036440"/>
            <a:chOff x="1584360" y="2198520"/>
            <a:chExt cx="974520" cy="1036440"/>
          </a:xfrm>
        </p:grpSpPr>
        <p:sp>
          <p:nvSpPr>
            <p:cNvPr id="879" name=""/>
            <p:cNvSpPr/>
            <p:nvPr/>
          </p:nvSpPr>
          <p:spPr>
            <a:xfrm>
              <a:off x="1584360" y="2198520"/>
              <a:ext cx="974520" cy="10364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53480" y="25174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53480" y="29160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1723320" y="283572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1309680" y="1862280"/>
            <a:ext cx="914040" cy="120600"/>
            <a:chOff x="1309680" y="1862280"/>
            <a:chExt cx="914040" cy="120600"/>
          </a:xfrm>
        </p:grpSpPr>
        <p:sp>
          <p:nvSpPr>
            <p:cNvPr id="884" name=""/>
            <p:cNvSpPr/>
            <p:nvPr/>
          </p:nvSpPr>
          <p:spPr>
            <a:xfrm>
              <a:off x="1553040" y="186228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80000" y="192240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30968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396720" y="1862280"/>
            <a:ext cx="912600" cy="120600"/>
            <a:chOff x="396720" y="1862280"/>
            <a:chExt cx="912600" cy="120600"/>
          </a:xfrm>
        </p:grpSpPr>
        <p:sp>
          <p:nvSpPr>
            <p:cNvPr id="888" name=""/>
            <p:cNvSpPr/>
            <p:nvPr/>
          </p:nvSpPr>
          <p:spPr>
            <a:xfrm>
              <a:off x="639720" y="18622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6596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6720" y="1922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H="1">
            <a:off x="1309320" y="240984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309680" y="192240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543040" y="26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224080" y="1922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833560" y="19224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517320" y="30193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00200" y="301932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720" y="1922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74680" y="222732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71520" y="189864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0848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540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55480" y="330048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6280" y="2060640"/>
            <a:ext cx="206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397160" y="256392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2819520" y="28951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36720" y="251460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31640" y="3111480"/>
            <a:ext cx="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081520" y="32004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5981760" y="32000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6440" y="1508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06400" y="3959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3022560" y="1503360"/>
                <a:ext cx="1406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4451400" y="4794120"/>
                <a:ext cx="3806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1047600" y="4929120"/>
                <a:ext cx="1170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6" name=""/>
          <p:cNvSpPr/>
          <p:nvPr/>
        </p:nvSpPr>
        <p:spPr>
          <a:xfrm>
            <a:off x="5376600" y="243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413400" y="244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45400" y="29448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408800" y="255744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73720" y="2052720"/>
            <a:ext cx="16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407120" y="53928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352760" y="4613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201640" y="2587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989680" y="280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63600" y="29462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5873760" y="4691160"/>
            <a:ext cx="151272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37640" y="853920"/>
            <a:ext cx="79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Szerego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ik na wzm. operacyjnym  i wtórnik emiterowy (źródłow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6546960" y="3801600"/>
            <a:ext cx="182520" cy="365760"/>
            <a:chOff x="6546960" y="3801600"/>
            <a:chExt cx="182520" cy="365760"/>
          </a:xfrm>
        </p:grpSpPr>
        <p:sp>
          <p:nvSpPr>
            <p:cNvPr id="930" name=""/>
            <p:cNvSpPr/>
            <p:nvPr/>
          </p:nvSpPr>
          <p:spPr>
            <a:xfrm>
              <a:off x="6546960" y="38019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546960" y="39844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6546960" y="38016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5267160" y="3070080"/>
            <a:ext cx="120960" cy="914040"/>
            <a:chOff x="5267160" y="3070080"/>
            <a:chExt cx="120960" cy="914040"/>
          </a:xfrm>
        </p:grpSpPr>
        <p:sp>
          <p:nvSpPr>
            <p:cNvPr id="934" name=""/>
            <p:cNvSpPr/>
            <p:nvPr/>
          </p:nvSpPr>
          <p:spPr>
            <a:xfrm rot="5400000">
              <a:off x="5114160" y="3466080"/>
              <a:ext cx="42660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27640" y="37404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27640" y="30700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H="1">
            <a:off x="5325840" y="39844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610320" y="543240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286240" y="396396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024400" y="25876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6489720" y="4858920"/>
            <a:ext cx="0" cy="330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730920" y="287496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6670440" y="4519440"/>
            <a:ext cx="122040" cy="912600"/>
            <a:chOff x="6670440" y="4519440"/>
            <a:chExt cx="122040" cy="912600"/>
          </a:xfrm>
        </p:grpSpPr>
        <p:sp>
          <p:nvSpPr>
            <p:cNvPr id="944" name=""/>
            <p:cNvSpPr/>
            <p:nvPr/>
          </p:nvSpPr>
          <p:spPr>
            <a:xfrm rot="5400000">
              <a:off x="6518520" y="4914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731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31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 flipH="1">
            <a:off x="6748200" y="45529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5267160" y="4519440"/>
            <a:ext cx="120960" cy="912600"/>
            <a:chOff x="5267160" y="4519440"/>
            <a:chExt cx="120960" cy="912600"/>
          </a:xfrm>
        </p:grpSpPr>
        <p:sp>
          <p:nvSpPr>
            <p:cNvPr id="949" name=""/>
            <p:cNvSpPr/>
            <p:nvPr/>
          </p:nvSpPr>
          <p:spPr>
            <a:xfrm rot="5400000">
              <a:off x="5114520" y="491472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27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27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5205240" y="5432400"/>
            <a:ext cx="24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5327640" y="4336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327280" y="2874960"/>
            <a:ext cx="14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703920" y="45100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800840" y="279072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59800" y="4824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6330600" y="417528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696000" y="283212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26920" y="47498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4838760" y="3879720"/>
            <a:ext cx="61920" cy="243000"/>
            <a:chOff x="4838760" y="3879720"/>
            <a:chExt cx="61920" cy="243000"/>
          </a:xfrm>
        </p:grpSpPr>
        <p:sp>
          <p:nvSpPr>
            <p:cNvPr id="962" name=""/>
            <p:cNvSpPr/>
            <p:nvPr/>
          </p:nvSpPr>
          <p:spPr>
            <a:xfrm>
              <a:off x="483876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0068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 flipH="1">
            <a:off x="4900680" y="399564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4351320" y="399564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290840" y="393552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7012080" y="4432320"/>
            <a:ext cx="61920" cy="243000"/>
            <a:chOff x="7012080" y="4432320"/>
            <a:chExt cx="61920" cy="243000"/>
          </a:xfrm>
        </p:grpSpPr>
        <p:sp>
          <p:nvSpPr>
            <p:cNvPr id="968" name=""/>
            <p:cNvSpPr/>
            <p:nvPr/>
          </p:nvSpPr>
          <p:spPr>
            <a:xfrm>
              <a:off x="701208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07400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7081920" y="4556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494480" y="44942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610400" y="4691160"/>
            <a:ext cx="0" cy="62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772760" y="4867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730920" y="4138200"/>
            <a:ext cx="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713640" y="286848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326200" y="28746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5326200" y="3970080"/>
            <a:ext cx="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376280" y="2664000"/>
            <a:ext cx="1895400" cy="634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884240" y="3338640"/>
            <a:ext cx="974880" cy="1036080"/>
            <a:chOff x="1884240" y="3338640"/>
            <a:chExt cx="974880" cy="1036080"/>
          </a:xfrm>
        </p:grpSpPr>
        <p:sp>
          <p:nvSpPr>
            <p:cNvPr id="980" name=""/>
            <p:cNvSpPr/>
            <p:nvPr/>
          </p:nvSpPr>
          <p:spPr>
            <a:xfrm>
              <a:off x="1884240" y="3338640"/>
              <a:ext cx="974880" cy="10360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953360" y="36576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953360" y="405576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2023200" y="397584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 flipH="1">
            <a:off x="1609560" y="3549600"/>
            <a:ext cx="2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1609560" y="306216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43280" y="382104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06680" y="3062160"/>
            <a:ext cx="152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33800" y="30621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817200" y="41590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000080" y="415908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55720" y="44402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720800" y="3716280"/>
            <a:ext cx="0" cy="303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402000" y="391140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36600" y="365436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731880" y="42508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640240" y="4340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389960" y="25876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63480" y="408636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25680" y="376380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4307040" y="4299120"/>
            <a:ext cx="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092400" y="37846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871240" y="4754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154200" y="361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13640" y="396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4089240" y="4417920"/>
            <a:ext cx="10065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01040" y="9320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903400" y="5621400"/>
                <a:ext cx="28641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09" name=""/>
          <p:cNvGrpSpPr/>
          <p:nvPr/>
        </p:nvGrpSpPr>
        <p:grpSpPr>
          <a:xfrm>
            <a:off x="4330800" y="3701520"/>
            <a:ext cx="182520" cy="365760"/>
            <a:chOff x="4330800" y="3701520"/>
            <a:chExt cx="182520" cy="365760"/>
          </a:xfrm>
        </p:grpSpPr>
        <p:sp>
          <p:nvSpPr>
            <p:cNvPr id="1010" name=""/>
            <p:cNvSpPr/>
            <p:nvPr/>
          </p:nvSpPr>
          <p:spPr>
            <a:xfrm>
              <a:off x="4330800" y="370188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330800" y="38844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4330800" y="37015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2768400" y="2652840"/>
            <a:ext cx="120600" cy="914040"/>
            <a:chOff x="2768400" y="2652840"/>
            <a:chExt cx="120600" cy="914040"/>
          </a:xfrm>
        </p:grpSpPr>
        <p:sp>
          <p:nvSpPr>
            <p:cNvPr id="1014" name=""/>
            <p:cNvSpPr/>
            <p:nvPr/>
          </p:nvSpPr>
          <p:spPr>
            <a:xfrm rot="5400000">
              <a:off x="2615400" y="304920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28880" y="332316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28880" y="2652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 flipH="1">
            <a:off x="2827440" y="3884760"/>
            <a:ext cx="15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394160" y="515628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706640" y="24098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787480" y="385452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808240" y="181764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330800" y="456696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514760" y="21049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4454280" y="4243320"/>
            <a:ext cx="122040" cy="912600"/>
            <a:chOff x="4454280" y="4243320"/>
            <a:chExt cx="122040" cy="912600"/>
          </a:xfrm>
        </p:grpSpPr>
        <p:sp>
          <p:nvSpPr>
            <p:cNvPr id="1025" name=""/>
            <p:cNvSpPr/>
            <p:nvPr/>
          </p:nvSpPr>
          <p:spPr>
            <a:xfrm rot="5400000">
              <a:off x="4302360" y="463824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154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154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768400" y="4243320"/>
            <a:ext cx="120600" cy="912600"/>
            <a:chOff x="2768400" y="4243320"/>
            <a:chExt cx="120600" cy="912600"/>
          </a:xfrm>
        </p:grpSpPr>
        <p:sp>
          <p:nvSpPr>
            <p:cNvPr id="1029" name=""/>
            <p:cNvSpPr/>
            <p:nvPr/>
          </p:nvSpPr>
          <p:spPr>
            <a:xfrm rot="5400000">
              <a:off x="2615760" y="463896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8288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288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706840" y="515628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2828880" y="3479760"/>
            <a:ext cx="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584680" y="20210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608720" y="4548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 flipV="1">
            <a:off x="4078080" y="4196520"/>
            <a:ext cx="169560" cy="114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1852560" y="424512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79840" y="206208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28160" y="44737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340000" y="3770280"/>
            <a:ext cx="61920" cy="243000"/>
            <a:chOff x="2340000" y="3770280"/>
            <a:chExt cx="61920" cy="243000"/>
          </a:xfrm>
        </p:grpSpPr>
        <p:sp>
          <p:nvSpPr>
            <p:cNvPr id="1041" name=""/>
            <p:cNvSpPr/>
            <p:nvPr/>
          </p:nvSpPr>
          <p:spPr>
            <a:xfrm>
              <a:off x="234000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40192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 flipH="1">
            <a:off x="2401920" y="38862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1852560" y="388620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792440" y="382572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5533920" y="3586320"/>
            <a:ext cx="0" cy="1317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681880" y="40370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4457520" y="2138400"/>
            <a:ext cx="122040" cy="912240"/>
            <a:chOff x="4457520" y="2138400"/>
            <a:chExt cx="122040" cy="912240"/>
          </a:xfrm>
        </p:grpSpPr>
        <p:sp>
          <p:nvSpPr>
            <p:cNvPr id="1049" name=""/>
            <p:cNvSpPr/>
            <p:nvPr/>
          </p:nvSpPr>
          <p:spPr>
            <a:xfrm rot="5400000">
              <a:off x="4305600" y="253332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18720" y="28072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18720" y="21384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4518000" y="3024360"/>
            <a:ext cx="648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4487040" y="2952720"/>
            <a:ext cx="1055160" cy="242640"/>
            <a:chOff x="4487040" y="2952720"/>
            <a:chExt cx="1055160" cy="242640"/>
          </a:xfrm>
        </p:grpSpPr>
        <p:sp>
          <p:nvSpPr>
            <p:cNvPr id="1054" name=""/>
            <p:cNvSpPr/>
            <p:nvPr/>
          </p:nvSpPr>
          <p:spPr>
            <a:xfrm>
              <a:off x="4487040" y="3036600"/>
              <a:ext cx="601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33080" y="2952720"/>
              <a:ext cx="61560" cy="242640"/>
              <a:chOff x="4933080" y="2952720"/>
              <a:chExt cx="61560" cy="24264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3308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9464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 flipH="1">
              <a:off x="4507200" y="306864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4994640" y="3068640"/>
              <a:ext cx="48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20160" y="3008160"/>
              <a:ext cx="12204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4162320" y="342108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869000" y="326376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40200" y="377208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22760" y="346536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629240" y="405432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124080" y="4606920"/>
                <a:ext cx="85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 flipV="1">
            <a:off x="4516560" y="40669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2825280" y="2101680"/>
            <a:ext cx="336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2825640" y="21016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3990960" y="3441600"/>
            <a:ext cx="2057400" cy="1917720"/>
          </a:xfrm>
          <a:custGeom>
            <a:avLst/>
            <a:gdLst/>
            <a:ahLst/>
            <a:rect l="l" t="t" r="r" b="b"/>
            <a:pathLst>
              <a:path w="1296" h="1208">
                <a:moveTo>
                  <a:pt x="8" y="1208"/>
                </a:moveTo>
                <a:lnTo>
                  <a:pt x="1296" y="1208"/>
                </a:lnTo>
                <a:lnTo>
                  <a:pt x="1296" y="0"/>
                </a:lnTo>
                <a:lnTo>
                  <a:pt x="464" y="0"/>
                </a:lnTo>
                <a:lnTo>
                  <a:pt x="464" y="728"/>
                </a:lnTo>
                <a:lnTo>
                  <a:pt x="0" y="728"/>
                </a:lnTo>
                <a:lnTo>
                  <a:pt x="8" y="120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-190440" y="-360"/>
            <a:ext cx="91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80120" y="87804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4106880" y="5533920"/>
                <a:ext cx="25750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4" name=""/>
          <p:cNvSpPr/>
          <p:nvPr/>
        </p:nvSpPr>
        <p:spPr>
          <a:xfrm>
            <a:off x="1541880" y="5695920"/>
            <a:ext cx="188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19880" y="26002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41640" y="326556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4143240" y="3220560"/>
            <a:ext cx="182520" cy="365760"/>
            <a:chOff x="4143240" y="3220560"/>
            <a:chExt cx="182520" cy="365760"/>
          </a:xfrm>
        </p:grpSpPr>
        <p:sp>
          <p:nvSpPr>
            <p:cNvPr id="1078" name=""/>
            <p:cNvSpPr/>
            <p:nvPr/>
          </p:nvSpPr>
          <p:spPr>
            <a:xfrm>
              <a:off x="4143240" y="322092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143240" y="340344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143240" y="322056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 flipH="1" flipV="1">
            <a:off x="6453360" y="2909880"/>
            <a:ext cx="2880" cy="1541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4263840" y="1725480"/>
            <a:ext cx="122040" cy="912600"/>
            <a:chOff x="4263840" y="1725480"/>
            <a:chExt cx="122040" cy="912600"/>
          </a:xfrm>
        </p:grpSpPr>
        <p:sp>
          <p:nvSpPr>
            <p:cNvPr id="1083" name=""/>
            <p:cNvSpPr/>
            <p:nvPr/>
          </p:nvSpPr>
          <p:spPr>
            <a:xfrm rot="5400000">
              <a:off x="4111920" y="212040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325040" y="239472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325040" y="172548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4325760" y="285444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2922120" y="340344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206960" y="449892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25920" y="168768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81480" y="296388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344640" y="17589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5924520" y="2328840"/>
            <a:ext cx="60480" cy="243000"/>
            <a:chOff x="5924520" y="2328840"/>
            <a:chExt cx="60480" cy="243000"/>
          </a:xfrm>
        </p:grpSpPr>
        <p:sp>
          <p:nvSpPr>
            <p:cNvPr id="1093" name=""/>
            <p:cNvSpPr/>
            <p:nvPr/>
          </p:nvSpPr>
          <p:spPr>
            <a:xfrm>
              <a:off x="592452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98500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4327560" y="2995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314960" y="1471680"/>
            <a:ext cx="19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5364000" y="3586320"/>
            <a:ext cx="120960" cy="912240"/>
            <a:chOff x="5364000" y="3586320"/>
            <a:chExt cx="120960" cy="912240"/>
          </a:xfrm>
        </p:grpSpPr>
        <p:sp>
          <p:nvSpPr>
            <p:cNvPr id="1098" name=""/>
            <p:cNvSpPr/>
            <p:nvPr/>
          </p:nvSpPr>
          <p:spPr>
            <a:xfrm rot="5400000">
              <a:off x="5211360" y="398160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24480" y="425520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424480" y="3586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5302080" y="4498920"/>
            <a:ext cx="244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424480" y="303840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057560" y="4971960"/>
            <a:ext cx="914040" cy="122400"/>
            <a:chOff x="4057560" y="4971960"/>
            <a:chExt cx="914040" cy="122400"/>
          </a:xfrm>
        </p:grpSpPr>
        <p:sp>
          <p:nvSpPr>
            <p:cNvPr id="1104" name=""/>
            <p:cNvSpPr/>
            <p:nvPr/>
          </p:nvSpPr>
          <p:spPr>
            <a:xfrm>
              <a:off x="4300920" y="49719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727880" y="50331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57560" y="50331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946520" y="3347640"/>
            <a:ext cx="912600" cy="120600"/>
            <a:chOff x="1946520" y="3347640"/>
            <a:chExt cx="912600" cy="120600"/>
          </a:xfrm>
        </p:grpSpPr>
        <p:sp>
          <p:nvSpPr>
            <p:cNvPr id="1108" name=""/>
            <p:cNvSpPr/>
            <p:nvPr/>
          </p:nvSpPr>
          <p:spPr>
            <a:xfrm rot="10800000">
              <a:off x="2190240" y="334764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1946520" y="3408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2616120" y="34081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1620720" y="451152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437080" y="245736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985000" y="246528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92800" y="24256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486240" y="33847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178680" y="14414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300720" y="239868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386320" y="14382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277160" y="451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615280" y="3890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274760" y="357516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599520" y="3311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49080" y="38037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2867040" y="3289320"/>
            <a:ext cx="61920" cy="243000"/>
            <a:chOff x="2867040" y="3289320"/>
            <a:chExt cx="61920" cy="243000"/>
          </a:xfrm>
        </p:grpSpPr>
        <p:sp>
          <p:nvSpPr>
            <p:cNvPr id="1125" name=""/>
            <p:cNvSpPr/>
            <p:nvPr/>
          </p:nvSpPr>
          <p:spPr>
            <a:xfrm>
              <a:off x="286704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92896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5248440" y="2803320"/>
            <a:ext cx="182520" cy="365400"/>
            <a:chOff x="5248440" y="2803320"/>
            <a:chExt cx="182520" cy="365400"/>
          </a:xfrm>
        </p:grpSpPr>
        <p:sp>
          <p:nvSpPr>
            <p:cNvPr id="1128" name=""/>
            <p:cNvSpPr/>
            <p:nvPr/>
          </p:nvSpPr>
          <p:spPr>
            <a:xfrm>
              <a:off x="5248440" y="28036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248440" y="2986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5248440" y="28033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"/>
          <p:cNvSpPr/>
          <p:nvPr/>
        </p:nvSpPr>
        <p:spPr>
          <a:xfrm flipH="1">
            <a:off x="4971960" y="366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4971960" y="3664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524400" y="343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3524040" y="503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5368680" y="1522440"/>
            <a:ext cx="122040" cy="912600"/>
            <a:chOff x="5368680" y="1522440"/>
            <a:chExt cx="122040" cy="912600"/>
          </a:xfrm>
        </p:grpSpPr>
        <p:sp>
          <p:nvSpPr>
            <p:cNvPr id="1136" name=""/>
            <p:cNvSpPr/>
            <p:nvPr/>
          </p:nvSpPr>
          <p:spPr>
            <a:xfrm rot="5400000">
              <a:off x="5216760" y="1917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429880" y="219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29880" y="1522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 flipV="1">
            <a:off x="4324320" y="14540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605200" y="17636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5430960" y="2328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324320" y="242568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91000" y="36259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1487520" y="3738600"/>
            <a:ext cx="487440" cy="488880"/>
            <a:chOff x="1487520" y="3738600"/>
            <a:chExt cx="487440" cy="488880"/>
          </a:xfrm>
        </p:grpSpPr>
        <p:sp>
          <p:nvSpPr>
            <p:cNvPr id="1145" name=""/>
            <p:cNvSpPr/>
            <p:nvPr/>
          </p:nvSpPr>
          <p:spPr>
            <a:xfrm>
              <a:off x="1487520" y="3738600"/>
              <a:ext cx="48744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1731240" y="386028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 flipV="1">
            <a:off x="1746360" y="33973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1746360" y="34099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733400" y="42228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081520" y="2790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324320" y="3587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797440" y="280656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099040" y="275112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5781600" y="2580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530680" y="32986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3676680" y="399384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705120" y="325908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627160" y="486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6600960" y="4713120"/>
                <a:ext cx="144756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627280" y="1736640"/>
                <a:ext cx="4313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Up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3375000" y="3814920"/>
                <a:ext cx="19684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3" name=""/>
          <p:cNvSpPr/>
          <p:nvPr/>
        </p:nvSpPr>
        <p:spPr>
          <a:xfrm>
            <a:off x="3978720" y="2984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003920" y="797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-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222720" y="1744560"/>
            <a:ext cx="2781360" cy="16495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4597560" y="3624120"/>
            <a:ext cx="898200" cy="1122120"/>
            <a:chOff x="4597560" y="3624120"/>
            <a:chExt cx="898200" cy="1122120"/>
          </a:xfrm>
        </p:grpSpPr>
        <p:sp>
          <p:nvSpPr>
            <p:cNvPr id="1168" name=""/>
            <p:cNvSpPr/>
            <p:nvPr/>
          </p:nvSpPr>
          <p:spPr>
            <a:xfrm>
              <a:off x="4597560" y="3624120"/>
              <a:ext cx="898200" cy="112212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661280" y="3969360"/>
              <a:ext cx="128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661280" y="4401000"/>
              <a:ext cx="128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725720" y="4314600"/>
              <a:ext cx="0" cy="17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4344840" y="2882880"/>
            <a:ext cx="841320" cy="130320"/>
            <a:chOff x="4344840" y="2882880"/>
            <a:chExt cx="841320" cy="130320"/>
          </a:xfrm>
        </p:grpSpPr>
        <p:sp>
          <p:nvSpPr>
            <p:cNvPr id="1173" name=""/>
            <p:cNvSpPr/>
            <p:nvPr/>
          </p:nvSpPr>
          <p:spPr>
            <a:xfrm>
              <a:off x="4569120" y="2882880"/>
              <a:ext cx="39276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96188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34484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3503520" y="2882880"/>
            <a:ext cx="840960" cy="130320"/>
            <a:chOff x="3503520" y="2882880"/>
            <a:chExt cx="840960" cy="130320"/>
          </a:xfrm>
        </p:grpSpPr>
        <p:sp>
          <p:nvSpPr>
            <p:cNvPr id="1177" name=""/>
            <p:cNvSpPr/>
            <p:nvPr/>
          </p:nvSpPr>
          <p:spPr>
            <a:xfrm>
              <a:off x="3727440" y="2882880"/>
              <a:ext cx="39240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020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03520" y="294804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 flipH="1">
            <a:off x="4344480" y="385452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4344840" y="312084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1720" y="4148280"/>
            <a:ext cx="112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6520" y="294804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275520" y="2676600"/>
            <a:ext cx="0" cy="14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3392640" y="4776840"/>
            <a:ext cx="447480" cy="528480"/>
            <a:chOff x="3392640" y="4776840"/>
            <a:chExt cx="447480" cy="528480"/>
          </a:xfrm>
        </p:grpSpPr>
        <p:sp>
          <p:nvSpPr>
            <p:cNvPr id="1186" name=""/>
            <p:cNvSpPr/>
            <p:nvPr/>
          </p:nvSpPr>
          <p:spPr>
            <a:xfrm>
              <a:off x="3392640" y="4776840"/>
              <a:ext cx="447480" cy="528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616560" y="4908600"/>
              <a:ext cx="0" cy="26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 flipH="1">
            <a:off x="3616200" y="4513320"/>
            <a:ext cx="22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616200" y="4525920"/>
            <a:ext cx="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616200" y="529596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03520" y="5559480"/>
            <a:ext cx="22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782880" y="4513320"/>
            <a:ext cx="78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3495600" y="2836800"/>
            <a:ext cx="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309920" y="2922480"/>
            <a:ext cx="57240" cy="65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545000" y="240984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692520" y="24019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121280" y="4873680"/>
            <a:ext cx="92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722760" y="3203640"/>
            <a:ext cx="468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21160" y="4138560"/>
            <a:ext cx="0" cy="220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6253200" y="4324320"/>
            <a:ext cx="0" cy="1238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767480" y="3919680"/>
            <a:ext cx="41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121280" y="4709880"/>
            <a:ext cx="0" cy="747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39960" y="483228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4357800" y="2208240"/>
            <a:ext cx="840960" cy="130320"/>
            <a:chOff x="4357800" y="2208240"/>
            <a:chExt cx="840960" cy="130320"/>
          </a:xfrm>
        </p:grpSpPr>
        <p:sp>
          <p:nvSpPr>
            <p:cNvPr id="1205" name=""/>
            <p:cNvSpPr/>
            <p:nvPr/>
          </p:nvSpPr>
          <p:spPr>
            <a:xfrm>
              <a:off x="4581720" y="2208240"/>
              <a:ext cx="39240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974480" y="227340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357800" y="227340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5187960" y="2128680"/>
            <a:ext cx="71280" cy="330120"/>
            <a:chOff x="5187960" y="2128680"/>
            <a:chExt cx="71280" cy="330120"/>
          </a:xfrm>
        </p:grpSpPr>
        <p:sp>
          <p:nvSpPr>
            <p:cNvPr id="1209" name=""/>
            <p:cNvSpPr/>
            <p:nvPr/>
          </p:nvSpPr>
          <p:spPr>
            <a:xfrm>
              <a:off x="5187960" y="2128680"/>
              <a:ext cx="0" cy="33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59240" y="2128680"/>
              <a:ext cx="0" cy="33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V="1">
            <a:off x="5748480" y="2263680"/>
            <a:ext cx="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6360" y="227808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343400" y="227808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518000" y="17287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077080" y="172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22920" y="2649600"/>
            <a:ext cx="554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748480" y="2673360"/>
            <a:ext cx="52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15880" y="17604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487520" y="2003400"/>
                <a:ext cx="16812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3729240" y="3273480"/>
            <a:ext cx="44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602400" y="4044960"/>
            <a:ext cx="174600" cy="18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2040" y="4125960"/>
            <a:ext cx="572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4746600" y="202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2117880" y="4254480"/>
                <a:ext cx="48942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299960" y="1665360"/>
            <a:ext cx="3389400" cy="2245320"/>
            <a:chOff x="1299960" y="1665360"/>
            <a:chExt cx="3389400" cy="2245320"/>
          </a:xfrm>
        </p:grpSpPr>
        <p:grpSp>
          <p:nvGrpSpPr>
            <p:cNvPr id="1227" name=""/>
            <p:cNvGrpSpPr/>
            <p:nvPr/>
          </p:nvGrpSpPr>
          <p:grpSpPr>
            <a:xfrm>
              <a:off x="1299960" y="1665360"/>
              <a:ext cx="3389400" cy="2245320"/>
              <a:chOff x="1299960" y="1665360"/>
              <a:chExt cx="3389400" cy="224532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1299960" y="1665360"/>
                <a:ext cx="3389400" cy="2245320"/>
                <a:chOff x="1299960" y="1665360"/>
                <a:chExt cx="3389400" cy="2245320"/>
              </a:xfrm>
            </p:grpSpPr>
            <p:sp>
              <p:nvSpPr>
                <p:cNvPr id="1229" name=""/>
                <p:cNvSpPr/>
                <p:nvPr/>
              </p:nvSpPr>
              <p:spPr>
                <a:xfrm flipV="1">
                  <a:off x="1992240" y="1852200"/>
                  <a:ext cx="0" cy="162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03320" y="3370320"/>
                  <a:ext cx="269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1992240" y="2293920"/>
                  <a:ext cx="2009520" cy="776160"/>
                </a:xfrm>
                <a:custGeom>
                  <a:avLst/>
                  <a:gdLst/>
                  <a:ahLst/>
                  <a:rect l="l" t="t" r="r" b="b"/>
                  <a:pathLst>
                    <a:path w="1266" h="489">
                      <a:moveTo>
                        <a:pt x="0" y="489"/>
                      </a:moveTo>
                      <a:lnTo>
                        <a:pt x="311" y="489"/>
                      </a:lnTo>
                      <a:lnTo>
                        <a:pt x="578" y="0"/>
                      </a:lnTo>
                      <a:lnTo>
                        <a:pt x="1266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145960" y="1665360"/>
                  <a:ext cx="7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|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f)|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4406400" y="294156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1299960" y="2835360"/>
                  <a:ext cx="71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1407960" y="206064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flipH="1">
                  <a:off x="1920240" y="2311560"/>
                  <a:ext cx="90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231640" y="3400560"/>
                  <a:ext cx="86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8" name=""/>
              <p:cNvSpPr/>
              <p:nvPr/>
            </p:nvSpPr>
            <p:spPr>
              <a:xfrm>
                <a:off x="2481120" y="3036960"/>
                <a:ext cx="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909880" y="2303640"/>
                <a:ext cx="0" cy="11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2039760" y="2278080"/>
              <a:ext cx="1571760" cy="79524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4902120" y="1636560"/>
            <a:ext cx="3249720" cy="2239200"/>
            <a:chOff x="4902120" y="1636560"/>
            <a:chExt cx="3249720" cy="2239200"/>
          </a:xfrm>
        </p:grpSpPr>
        <p:sp>
          <p:nvSpPr>
            <p:cNvPr id="1242" name=""/>
            <p:cNvSpPr/>
            <p:nvPr/>
          </p:nvSpPr>
          <p:spPr>
            <a:xfrm flipV="1">
              <a:off x="5454720" y="1817280"/>
              <a:ext cx="0" cy="16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365800" y="333540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5454720" y="2259000"/>
              <a:ext cx="2009880" cy="776160"/>
            </a:xfrm>
            <a:custGeom>
              <a:avLst/>
              <a:gdLst/>
              <a:ahLst/>
              <a:rect l="l" t="t" r="r" b="b"/>
              <a:pathLst>
                <a:path w="1266" h="489">
                  <a:moveTo>
                    <a:pt x="0" y="489"/>
                  </a:moveTo>
                  <a:lnTo>
                    <a:pt x="311" y="489"/>
                  </a:lnTo>
                  <a:lnTo>
                    <a:pt x="578" y="0"/>
                  </a:lnTo>
                  <a:lnTo>
                    <a:pt x="12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22840" y="1636560"/>
              <a:ext cx="101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f)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868880" y="2906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02120" y="2800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5487480" y="301608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694120" y="3365640"/>
              <a:ext cx="8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18040" y="2268360"/>
              <a:ext cx="0" cy="10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356520" y="30020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5477040" y="2252520"/>
              <a:ext cx="1571400" cy="79560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522360" y="2800440"/>
                <a:ext cx="699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7880" y="2054160"/>
                <a:ext cx="1081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676520"/>
            <a:ext cx="243864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10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505320"/>
            <a:ext cx="243864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286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01956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6294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53920" y="1881360"/>
            <a:ext cx="188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441972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362320" y="5311800"/>
                <a:ext cx="41637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489760" y="2314440"/>
            <a:ext cx="109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2360" y="263520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4200" y="445464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43320" y="252252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05080" y="2173320"/>
            <a:ext cx="32220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1676520"/>
            <a:ext cx="243828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1000 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505320"/>
            <a:ext cx="243828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74284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3244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9343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64160" y="2306520"/>
            <a:ext cx="125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0840" y="17524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-100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434340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-1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65120" y="5311800"/>
                <a:ext cx="61581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09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280040" y="262260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303440" y="4441680"/>
            <a:ext cx="13856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1120" y="25239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12880" y="2174760"/>
            <a:ext cx="32256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905120"/>
            <a:ext cx="243828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733920"/>
            <a:ext cx="243828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1916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4004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010280" y="2590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2590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16800" y="25606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7880" y="1981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0"/>
            <a:ext cx="198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706400" y="5541840"/>
                <a:ext cx="5335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acc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76600" y="2846520"/>
            <a:ext cx="147348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38520" y="470052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1480" y="275580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3600" y="2406600"/>
            <a:ext cx="32220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jemny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5960" y="1744560"/>
            <a:ext cx="7351200" cy="4523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Zmniejsza wzmocnienie układu: 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leje współczynnik zawartości harmonicznych: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Poprawia się stałość punktów pracy - sprzężenie dla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Zmniejsza wraż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Zwiększa się pasmo przenoszenia: 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gt;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Zmienia się impedancja wejściowa i wyjśc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7. Wpływa na stabilność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619280" y="1166760"/>
                <a:ext cx="15555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2" name=""/>
          <p:cNvGrpSpPr/>
          <p:nvPr/>
        </p:nvGrpSpPr>
        <p:grpSpPr>
          <a:xfrm>
            <a:off x="563400" y="2239920"/>
            <a:ext cx="6946920" cy="3703680"/>
            <a:chOff x="563400" y="2239920"/>
            <a:chExt cx="6946920" cy="3703680"/>
          </a:xfrm>
        </p:grpSpPr>
        <p:sp>
          <p:nvSpPr>
            <p:cNvPr id="123" name=""/>
            <p:cNvSpPr/>
            <p:nvPr/>
          </p:nvSpPr>
          <p:spPr>
            <a:xfrm>
              <a:off x="2362320" y="411480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38480" y="289548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98720" y="4133880"/>
              <a:ext cx="1130400" cy="8380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996720" y="3298680"/>
              <a:ext cx="1252440" cy="87336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400" y="4100400"/>
              <a:ext cx="3495960" cy="9082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014720" y="3220200"/>
              <a:ext cx="3495600" cy="9082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58760" y="371628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31000" y="246528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5200" y="2239920"/>
              <a:ext cx="3157560" cy="917640"/>
            </a:xfrm>
            <a:prstGeom prst="wedgeRectCallout">
              <a:avLst>
                <a:gd name="adj1" fmla="val 65736"/>
                <a:gd name="adj2" fmla="val 112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chylenie =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99160" y="4657680"/>
              <a:ext cx="2628720" cy="774720"/>
            </a:xfrm>
            <a:prstGeom prst="wedgeRectCallout">
              <a:avLst>
                <a:gd name="adj1" fmla="val -59180"/>
                <a:gd name="adj2" fmla="val -1803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Nachylenie =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3297240"/>
              <a:ext cx="0" cy="264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97320" y="3273480"/>
              <a:ext cx="0" cy="264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5767560"/>
              <a:ext cx="4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134520" y="6010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res liniowej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097160" y="1035000"/>
                <a:ext cx="40514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bar>
                              <m:barPr>
                                <m:pos m:val="top"/>
                              </m:barPr>
                              <m:e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…</m:t>
                                </m:r>
                              </m:e>
                            </m:ba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03400" y="1954080"/>
            <a:ext cx="6886440" cy="44960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51320" y="5407200"/>
            <a:ext cx="1274760" cy="841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8960" y="5622840"/>
            <a:ext cx="170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gulacja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8:45:18Z</dcterms:created>
  <dc:creator>Agnieszka Kukawczynska</dc:creator>
  <dc:description/>
  <dc:language>en-US</dc:language>
  <cp:lastModifiedBy>MK</cp:lastModifiedBy>
  <dcterms:modified xsi:type="dcterms:W3CDTF">2006-03-23T15:41:37Z</dcterms:modified>
  <cp:revision>136</cp:revision>
  <dc:subject/>
  <dc:title>Sprzężenie zwrotne</dc:title>
</cp:coreProperties>
</file>